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2E1-3C23-4565-95A3-6276171D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C15-EFD6-42E6-BF81-D13D712A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2EA-94F4-4925-9E33-C2461F10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B97-6EB6-446A-8A98-A7323725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AB3-2D35-42A6-AA57-30C18F6B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2E4-A328-4C02-BE7D-123BF92D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A2D-CBD9-4D74-BD32-0322B5DE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614-D39A-41A1-9E0C-EF9B5E39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317-8A55-46F3-AD6B-3A153270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53E-6F33-4879-A242-CFA01A2F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0B8-6D3D-4894-ADC4-838D036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8DE-985C-4DAD-A007-F27C4065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C190-D467-4218-81EE-A9CFF368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äsentationsti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äsentationsti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Seit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äsentationsti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alt Seit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12:33:42Z</dcterms:created>
  <dc:creator>Spona</dc:creator>
  <dc:description/>
  <dc:language>en-US</dc:language>
  <cp:lastModifiedBy>Spona</cp:lastModifiedBy>
  <dcterms:modified xsi:type="dcterms:W3CDTF">2004-07-22T13:36:39Z</dcterms:modified>
  <cp:revision>3</cp:revision>
  <dc:subject/>
  <dc:title>Präsentationstitel</dc:title>
</cp:coreProperties>
</file>