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FC0-58E5-41F7-86D4-D9BA2D9A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368-CE32-4BFB-8A53-C2A5B40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6A5-95E9-49D5-94A0-BBD58D58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134-22F3-4048-93C2-D9590DC9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2D7-C628-48C8-B2BE-DCE2C61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13C-55CE-4A2D-BBDA-56593833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BBB-E5BE-4B0F-AD71-C1EC81A5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87B-4595-4F2F-A672-48E8822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870-B27C-4D10-AF59-3CD9E51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8F3-C91B-44DA-BB15-F78F3AE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49C-C986-4B6A-A2C4-58B955C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789-A824-4A9D-936F-39E489B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625-2467-478A-9321-74492A94B0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preadsheet1"/>
          <p:cNvGraphicFramePr/>
          <p:nvPr/>
        </p:nvGraphicFramePr>
        <p:xfrm>
          <a:off x="746280" y="762120"/>
          <a:ext cx="350172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preadshee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762120"/>
                    <a:ext cx="3501720" cy="277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preadsheet1"/>
          <p:cNvGraphicFramePr/>
          <p:nvPr/>
        </p:nvGraphicFramePr>
        <p:xfrm>
          <a:off x="108000" y="339840"/>
          <a:ext cx="458640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preadshee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39840"/>
                    <a:ext cx="4586400" cy="222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" name="ChartSpace1"/>
          <p:cNvGraphicFramePr/>
          <p:nvPr/>
        </p:nvGraphicFramePr>
        <p:xfrm>
          <a:off x="3059280" y="2924280"/>
          <a:ext cx="374472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ChartSpace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924280"/>
                    <a:ext cx="3744720" cy="21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1:57:00Z</dcterms:created>
  <dc:creator>Dr. Eckehard Pfeifer</dc:creator>
  <dc:description/>
  <dc:language>en-US</dc:language>
  <cp:lastModifiedBy>Dr. Eckehard Pfeifer</cp:lastModifiedBy>
  <dcterms:modified xsi:type="dcterms:W3CDTF">2004-08-02T15:34:47Z</dcterms:modified>
  <cp:revision>8</cp:revision>
  <dc:subject/>
  <dc:title>Webkomponnten im Einsatz</dc:title>
</cp:coreProperties>
</file>