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1440" y="-3600"/>
            <a:ext cx="30398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520" y="-3600"/>
            <a:ext cx="304020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1440" y="8829360"/>
            <a:ext cx="30398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71520" y="8829360"/>
            <a:ext cx="304020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3AB59E0-9E40-4C55-BE79-8C4CB7DC14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254640" y="8859240"/>
            <a:ext cx="975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040" rIns="113040" tIns="66960" bIns="669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7800"/>
                <a:tab algn="l" pos="2955960"/>
                <a:tab algn="l" pos="4433760"/>
                <a:tab algn="l" pos="5911920"/>
                <a:tab algn="l" pos="7389720"/>
                <a:tab algn="l" pos="8867880"/>
                <a:tab algn="l" pos="10345680"/>
              </a:tabLst>
            </a:pPr>
            <a:fld id="{B5C13E62-3875-4AAB-BC21-7BC4AC16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71880" y="-3240"/>
            <a:ext cx="304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971880" y="8829720"/>
            <a:ext cx="304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-1440" y="8829720"/>
            <a:ext cx="3039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-1440" y="-3240"/>
            <a:ext cx="3039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971880" y="-3240"/>
            <a:ext cx="304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1880" y="8829720"/>
            <a:ext cx="3040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-1440" y="8829720"/>
            <a:ext cx="3039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-1440" y="-3240"/>
            <a:ext cx="3039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971880" y="-3240"/>
            <a:ext cx="3040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971880" y="8827920"/>
            <a:ext cx="30402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-1440" y="8827920"/>
            <a:ext cx="3039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-1440" y="-3240"/>
            <a:ext cx="3039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970440" y="-324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3970440" y="8827920"/>
            <a:ext cx="3041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-1440" y="8827920"/>
            <a:ext cx="3038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-1440" y="-324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970440" y="-324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970440" y="8827920"/>
            <a:ext cx="3041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-1440" y="8827920"/>
            <a:ext cx="3038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-1440" y="-324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3968640" y="-324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3968640" y="8827920"/>
            <a:ext cx="3043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-1440" y="8827920"/>
            <a:ext cx="3036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-1440" y="-3240"/>
            <a:ext cx="303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3968640" y="-324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3968640" y="8827920"/>
            <a:ext cx="3043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-1440" y="8827920"/>
            <a:ext cx="3036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-1440" y="-3240"/>
            <a:ext cx="303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3967200" y="-324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967200" y="8826480"/>
            <a:ext cx="3044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-1440" y="8826480"/>
            <a:ext cx="3036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-1440" y="-3240"/>
            <a:ext cx="303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3965400" y="-3240"/>
            <a:ext cx="304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3965400" y="8826480"/>
            <a:ext cx="3046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00160"/>
                <a:tab algn="l" pos="2200320"/>
                <a:tab algn="l" pos="3300480"/>
                <a:tab algn="l" pos="4400640"/>
                <a:tab algn="l" pos="5500800"/>
                <a:tab algn="l" pos="6600960"/>
                <a:tab algn="l" pos="7701120"/>
                <a:tab algn="l" pos="8801280"/>
                <a:tab algn="l" pos="9901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-1440" y="8826480"/>
            <a:ext cx="3035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-1440" y="-3240"/>
            <a:ext cx="3035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8"/>
          <p:cNvSpPr/>
          <p:nvPr/>
        </p:nvSpPr>
        <p:spPr>
          <a:xfrm>
            <a:off x="3965400" y="-3240"/>
            <a:ext cx="304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3965400" y="8826480"/>
            <a:ext cx="3046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00160"/>
                <a:tab algn="l" pos="2200320"/>
                <a:tab algn="l" pos="3300480"/>
                <a:tab algn="l" pos="4400640"/>
                <a:tab algn="l" pos="5500800"/>
                <a:tab algn="l" pos="6600960"/>
                <a:tab algn="l" pos="7701120"/>
                <a:tab algn="l" pos="8801280"/>
                <a:tab algn="l" pos="9901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-1440" y="8826480"/>
            <a:ext cx="3035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-1440" y="-3240"/>
            <a:ext cx="3035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2"/>
          <p:cNvSpPr/>
          <p:nvPr/>
        </p:nvSpPr>
        <p:spPr>
          <a:xfrm>
            <a:off x="3965400" y="-3240"/>
            <a:ext cx="304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3"/>
          <p:cNvSpPr/>
          <p:nvPr/>
        </p:nvSpPr>
        <p:spPr>
          <a:xfrm>
            <a:off x="3965400" y="8826480"/>
            <a:ext cx="3046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00160"/>
                <a:tab algn="l" pos="2200320"/>
                <a:tab algn="l" pos="3300480"/>
                <a:tab algn="l" pos="4400640"/>
                <a:tab algn="l" pos="5500800"/>
                <a:tab algn="l" pos="6600960"/>
                <a:tab algn="l" pos="7701120"/>
                <a:tab algn="l" pos="8801280"/>
                <a:tab algn="l" pos="9901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-1440" y="8826480"/>
            <a:ext cx="3035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5"/>
          <p:cNvSpPr/>
          <p:nvPr/>
        </p:nvSpPr>
        <p:spPr>
          <a:xfrm>
            <a:off x="-1440" y="-3240"/>
            <a:ext cx="3035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6"/>
          <p:cNvSpPr/>
          <p:nvPr/>
        </p:nvSpPr>
        <p:spPr>
          <a:xfrm>
            <a:off x="3963960" y="-324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7"/>
          <p:cNvSpPr/>
          <p:nvPr/>
        </p:nvSpPr>
        <p:spPr>
          <a:xfrm>
            <a:off x="3963960" y="8825040"/>
            <a:ext cx="3048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-1440" y="8825040"/>
            <a:ext cx="3035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9"/>
          <p:cNvSpPr/>
          <p:nvPr/>
        </p:nvSpPr>
        <p:spPr>
          <a:xfrm>
            <a:off x="-1440" y="-3240"/>
            <a:ext cx="30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0"/>
          <p:cNvSpPr/>
          <p:nvPr/>
        </p:nvSpPr>
        <p:spPr>
          <a:xfrm>
            <a:off x="3963960" y="-324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1"/>
          <p:cNvSpPr/>
          <p:nvPr/>
        </p:nvSpPr>
        <p:spPr>
          <a:xfrm>
            <a:off x="3963960" y="8825040"/>
            <a:ext cx="3048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2"/>
          <p:cNvSpPr/>
          <p:nvPr/>
        </p:nvSpPr>
        <p:spPr>
          <a:xfrm>
            <a:off x="-1440" y="8825040"/>
            <a:ext cx="3035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3"/>
          <p:cNvSpPr/>
          <p:nvPr/>
        </p:nvSpPr>
        <p:spPr>
          <a:xfrm>
            <a:off x="-1440" y="-3240"/>
            <a:ext cx="30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4"/>
          <p:cNvSpPr/>
          <p:nvPr/>
        </p:nvSpPr>
        <p:spPr>
          <a:xfrm>
            <a:off x="3963960" y="-324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5"/>
          <p:cNvSpPr/>
          <p:nvPr/>
        </p:nvSpPr>
        <p:spPr>
          <a:xfrm>
            <a:off x="3963960" y="8825040"/>
            <a:ext cx="3048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6"/>
          <p:cNvSpPr/>
          <p:nvPr/>
        </p:nvSpPr>
        <p:spPr>
          <a:xfrm>
            <a:off x="-1440" y="8825040"/>
            <a:ext cx="3035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7"/>
          <p:cNvSpPr/>
          <p:nvPr/>
        </p:nvSpPr>
        <p:spPr>
          <a:xfrm>
            <a:off x="-1440" y="-3240"/>
            <a:ext cx="30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8"/>
          <p:cNvSpPr/>
          <p:nvPr/>
        </p:nvSpPr>
        <p:spPr>
          <a:xfrm>
            <a:off x="3962520" y="-3240"/>
            <a:ext cx="30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9"/>
          <p:cNvSpPr/>
          <p:nvPr/>
        </p:nvSpPr>
        <p:spPr>
          <a:xfrm>
            <a:off x="3962520" y="8825040"/>
            <a:ext cx="3049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0"/>
          <p:cNvSpPr/>
          <p:nvPr/>
        </p:nvSpPr>
        <p:spPr>
          <a:xfrm>
            <a:off x="-1440" y="8825040"/>
            <a:ext cx="3033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1"/>
          <p:cNvSpPr/>
          <p:nvPr/>
        </p:nvSpPr>
        <p:spPr>
          <a:xfrm>
            <a:off x="-1440" y="-3240"/>
            <a:ext cx="30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2"/>
          <p:cNvSpPr/>
          <p:nvPr/>
        </p:nvSpPr>
        <p:spPr>
          <a:xfrm>
            <a:off x="3960720" y="-3240"/>
            <a:ext cx="3051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3"/>
          <p:cNvSpPr/>
          <p:nvPr/>
        </p:nvSpPr>
        <p:spPr>
          <a:xfrm>
            <a:off x="3960720" y="8825040"/>
            <a:ext cx="305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4"/>
          <p:cNvSpPr/>
          <p:nvPr/>
        </p:nvSpPr>
        <p:spPr>
          <a:xfrm>
            <a:off x="-1440" y="8825040"/>
            <a:ext cx="30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5"/>
          <p:cNvSpPr/>
          <p:nvPr/>
        </p:nvSpPr>
        <p:spPr>
          <a:xfrm>
            <a:off x="-1440" y="-3240"/>
            <a:ext cx="3030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6"/>
          <p:cNvSpPr/>
          <p:nvPr/>
        </p:nvSpPr>
        <p:spPr>
          <a:xfrm>
            <a:off x="3960720" y="-3240"/>
            <a:ext cx="3051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7"/>
          <p:cNvSpPr/>
          <p:nvPr/>
        </p:nvSpPr>
        <p:spPr>
          <a:xfrm>
            <a:off x="3960720" y="8825040"/>
            <a:ext cx="305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8"/>
          <p:cNvSpPr/>
          <p:nvPr/>
        </p:nvSpPr>
        <p:spPr>
          <a:xfrm>
            <a:off x="-1440" y="8825040"/>
            <a:ext cx="30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9"/>
          <p:cNvSpPr/>
          <p:nvPr/>
        </p:nvSpPr>
        <p:spPr>
          <a:xfrm>
            <a:off x="-1440" y="-3240"/>
            <a:ext cx="3030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0"/>
          <p:cNvSpPr/>
          <p:nvPr/>
        </p:nvSpPr>
        <p:spPr>
          <a:xfrm>
            <a:off x="3960720" y="-3240"/>
            <a:ext cx="3051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1"/>
          <p:cNvSpPr/>
          <p:nvPr/>
        </p:nvSpPr>
        <p:spPr>
          <a:xfrm>
            <a:off x="3960720" y="8825040"/>
            <a:ext cx="305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2"/>
          <p:cNvSpPr/>
          <p:nvPr/>
        </p:nvSpPr>
        <p:spPr>
          <a:xfrm>
            <a:off x="-1440" y="8825040"/>
            <a:ext cx="30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3"/>
          <p:cNvSpPr/>
          <p:nvPr/>
        </p:nvSpPr>
        <p:spPr>
          <a:xfrm>
            <a:off x="-1440" y="-3240"/>
            <a:ext cx="3030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4"/>
          <p:cNvSpPr/>
          <p:nvPr/>
        </p:nvSpPr>
        <p:spPr>
          <a:xfrm>
            <a:off x="3959280" y="-3240"/>
            <a:ext cx="3052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5"/>
          <p:cNvSpPr/>
          <p:nvPr/>
        </p:nvSpPr>
        <p:spPr>
          <a:xfrm>
            <a:off x="3959280" y="8823240"/>
            <a:ext cx="305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6"/>
          <p:cNvSpPr/>
          <p:nvPr/>
        </p:nvSpPr>
        <p:spPr>
          <a:xfrm>
            <a:off x="-1440" y="8823240"/>
            <a:ext cx="30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7"/>
          <p:cNvSpPr/>
          <p:nvPr/>
        </p:nvSpPr>
        <p:spPr>
          <a:xfrm>
            <a:off x="-1440" y="-3240"/>
            <a:ext cx="30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8"/>
          <p:cNvSpPr/>
          <p:nvPr/>
        </p:nvSpPr>
        <p:spPr>
          <a:xfrm>
            <a:off x="3959280" y="-3240"/>
            <a:ext cx="3052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9"/>
          <p:cNvSpPr/>
          <p:nvPr/>
        </p:nvSpPr>
        <p:spPr>
          <a:xfrm>
            <a:off x="3959280" y="8823240"/>
            <a:ext cx="305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0"/>
          <p:cNvSpPr/>
          <p:nvPr/>
        </p:nvSpPr>
        <p:spPr>
          <a:xfrm>
            <a:off x="-1440" y="8823240"/>
            <a:ext cx="30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1"/>
          <p:cNvSpPr/>
          <p:nvPr/>
        </p:nvSpPr>
        <p:spPr>
          <a:xfrm>
            <a:off x="-1440" y="-3240"/>
            <a:ext cx="30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2"/>
          <p:cNvSpPr/>
          <p:nvPr/>
        </p:nvSpPr>
        <p:spPr>
          <a:xfrm>
            <a:off x="3959280" y="-3240"/>
            <a:ext cx="3052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3"/>
          <p:cNvSpPr/>
          <p:nvPr/>
        </p:nvSpPr>
        <p:spPr>
          <a:xfrm>
            <a:off x="3959280" y="8823240"/>
            <a:ext cx="305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4"/>
          <p:cNvSpPr/>
          <p:nvPr/>
        </p:nvSpPr>
        <p:spPr>
          <a:xfrm>
            <a:off x="-1440" y="8823240"/>
            <a:ext cx="30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5"/>
          <p:cNvSpPr/>
          <p:nvPr/>
        </p:nvSpPr>
        <p:spPr>
          <a:xfrm>
            <a:off x="-1440" y="-3240"/>
            <a:ext cx="30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6"/>
          <p:cNvSpPr/>
          <p:nvPr/>
        </p:nvSpPr>
        <p:spPr>
          <a:xfrm>
            <a:off x="3959280" y="-3240"/>
            <a:ext cx="3052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7"/>
          <p:cNvSpPr/>
          <p:nvPr/>
        </p:nvSpPr>
        <p:spPr>
          <a:xfrm>
            <a:off x="3959280" y="8823240"/>
            <a:ext cx="305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6200"/>
                <a:tab algn="l" pos="2552760"/>
                <a:tab algn="l" pos="3828960"/>
                <a:tab algn="l" pos="5105520"/>
                <a:tab algn="l" pos="6381720"/>
                <a:tab algn="l" pos="7658280"/>
                <a:tab algn="l" pos="8934480"/>
                <a:tab algn="l" pos="10210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8"/>
          <p:cNvSpPr/>
          <p:nvPr/>
        </p:nvSpPr>
        <p:spPr>
          <a:xfrm>
            <a:off x="-1440" y="8823240"/>
            <a:ext cx="30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9"/>
          <p:cNvSpPr/>
          <p:nvPr/>
        </p:nvSpPr>
        <p:spPr>
          <a:xfrm>
            <a:off x="-1440" y="-3240"/>
            <a:ext cx="3030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0"/>
          <p:cNvSpPr/>
          <p:nvPr/>
        </p:nvSpPr>
        <p:spPr>
          <a:xfrm>
            <a:off x="3957480" y="-3240"/>
            <a:ext cx="3054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1"/>
          <p:cNvSpPr/>
          <p:nvPr/>
        </p:nvSpPr>
        <p:spPr>
          <a:xfrm>
            <a:off x="3957480" y="8821800"/>
            <a:ext cx="305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2"/>
          <p:cNvSpPr/>
          <p:nvPr/>
        </p:nvSpPr>
        <p:spPr>
          <a:xfrm>
            <a:off x="-1440" y="8821800"/>
            <a:ext cx="3030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3"/>
          <p:cNvSpPr/>
          <p:nvPr/>
        </p:nvSpPr>
        <p:spPr>
          <a:xfrm>
            <a:off x="-1440" y="-3240"/>
            <a:ext cx="3030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4"/>
          <p:cNvSpPr/>
          <p:nvPr/>
        </p:nvSpPr>
        <p:spPr>
          <a:xfrm>
            <a:off x="3956040" y="-3240"/>
            <a:ext cx="30560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5"/>
          <p:cNvSpPr/>
          <p:nvPr/>
        </p:nvSpPr>
        <p:spPr>
          <a:xfrm>
            <a:off x="3956040" y="8820000"/>
            <a:ext cx="30560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6"/>
          <p:cNvSpPr/>
          <p:nvPr/>
        </p:nvSpPr>
        <p:spPr>
          <a:xfrm>
            <a:off x="-1440" y="8820000"/>
            <a:ext cx="3030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7"/>
          <p:cNvSpPr/>
          <p:nvPr/>
        </p:nvSpPr>
        <p:spPr>
          <a:xfrm>
            <a:off x="-1440" y="-3240"/>
            <a:ext cx="303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8"/>
          <p:cNvSpPr/>
          <p:nvPr/>
        </p:nvSpPr>
        <p:spPr>
          <a:xfrm>
            <a:off x="3954600" y="-3240"/>
            <a:ext cx="30574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9"/>
          <p:cNvSpPr/>
          <p:nvPr/>
        </p:nvSpPr>
        <p:spPr>
          <a:xfrm>
            <a:off x="3954600" y="8818560"/>
            <a:ext cx="3057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0"/>
          <p:cNvSpPr/>
          <p:nvPr/>
        </p:nvSpPr>
        <p:spPr>
          <a:xfrm>
            <a:off x="-1440" y="8818560"/>
            <a:ext cx="3030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1"/>
          <p:cNvSpPr/>
          <p:nvPr/>
        </p:nvSpPr>
        <p:spPr>
          <a:xfrm>
            <a:off x="-1440" y="-3240"/>
            <a:ext cx="30304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2"/>
          <p:cNvSpPr/>
          <p:nvPr/>
        </p:nvSpPr>
        <p:spPr>
          <a:xfrm>
            <a:off x="3952800" y="-3240"/>
            <a:ext cx="3059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3"/>
          <p:cNvSpPr/>
          <p:nvPr/>
        </p:nvSpPr>
        <p:spPr>
          <a:xfrm>
            <a:off x="3952800" y="8818560"/>
            <a:ext cx="3059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4"/>
          <p:cNvSpPr/>
          <p:nvPr/>
        </p:nvSpPr>
        <p:spPr>
          <a:xfrm>
            <a:off x="-1440" y="8818560"/>
            <a:ext cx="3028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5"/>
          <p:cNvSpPr/>
          <p:nvPr/>
        </p:nvSpPr>
        <p:spPr>
          <a:xfrm>
            <a:off x="-1440" y="-3240"/>
            <a:ext cx="3028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6"/>
          <p:cNvSpPr/>
          <p:nvPr/>
        </p:nvSpPr>
        <p:spPr>
          <a:xfrm>
            <a:off x="3951360" y="-3240"/>
            <a:ext cx="30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7"/>
          <p:cNvSpPr/>
          <p:nvPr/>
        </p:nvSpPr>
        <p:spPr>
          <a:xfrm>
            <a:off x="3951360" y="8817120"/>
            <a:ext cx="306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7800"/>
                <a:tab algn="l" pos="2955960"/>
                <a:tab algn="l" pos="4433760"/>
                <a:tab algn="l" pos="5911920"/>
                <a:tab algn="l" pos="7389720"/>
                <a:tab algn="l" pos="8867880"/>
                <a:tab algn="l" pos="10345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8"/>
          <p:cNvSpPr/>
          <p:nvPr/>
        </p:nvSpPr>
        <p:spPr>
          <a:xfrm>
            <a:off x="-1440" y="8817120"/>
            <a:ext cx="3028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9"/>
          <p:cNvSpPr/>
          <p:nvPr/>
        </p:nvSpPr>
        <p:spPr>
          <a:xfrm>
            <a:off x="-1440" y="-3240"/>
            <a:ext cx="3028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0"/>
          <p:cNvSpPr/>
          <p:nvPr/>
        </p:nvSpPr>
        <p:spPr>
          <a:xfrm>
            <a:off x="3951360" y="-3240"/>
            <a:ext cx="30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1"/>
          <p:cNvSpPr/>
          <p:nvPr/>
        </p:nvSpPr>
        <p:spPr>
          <a:xfrm>
            <a:off x="3951360" y="8817120"/>
            <a:ext cx="306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7800"/>
                <a:tab algn="l" pos="2955960"/>
                <a:tab algn="l" pos="4433760"/>
                <a:tab algn="l" pos="5911920"/>
                <a:tab algn="l" pos="7389720"/>
                <a:tab algn="l" pos="8867880"/>
                <a:tab algn="l" pos="10345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2"/>
          <p:cNvSpPr/>
          <p:nvPr/>
        </p:nvSpPr>
        <p:spPr>
          <a:xfrm>
            <a:off x="-1440" y="8817120"/>
            <a:ext cx="3028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3"/>
          <p:cNvSpPr/>
          <p:nvPr/>
        </p:nvSpPr>
        <p:spPr>
          <a:xfrm>
            <a:off x="-1440" y="-3240"/>
            <a:ext cx="3028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4"/>
          <p:cNvSpPr/>
          <p:nvPr/>
        </p:nvSpPr>
        <p:spPr>
          <a:xfrm>
            <a:off x="3951360" y="-3240"/>
            <a:ext cx="30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5"/>
          <p:cNvSpPr/>
          <p:nvPr/>
        </p:nvSpPr>
        <p:spPr>
          <a:xfrm>
            <a:off x="3951360" y="8817120"/>
            <a:ext cx="306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7800"/>
                <a:tab algn="l" pos="2955960"/>
                <a:tab algn="l" pos="4433760"/>
                <a:tab algn="l" pos="5911920"/>
                <a:tab algn="l" pos="7389720"/>
                <a:tab algn="l" pos="8867880"/>
                <a:tab algn="l" pos="10345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6"/>
          <p:cNvSpPr/>
          <p:nvPr/>
        </p:nvSpPr>
        <p:spPr>
          <a:xfrm>
            <a:off x="-1440" y="8817120"/>
            <a:ext cx="30286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7"/>
          <p:cNvSpPr/>
          <p:nvPr/>
        </p:nvSpPr>
        <p:spPr>
          <a:xfrm>
            <a:off x="-1440" y="-3240"/>
            <a:ext cx="3028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8"/>
          <p:cNvSpPr/>
          <p:nvPr/>
        </p:nvSpPr>
        <p:spPr>
          <a:xfrm>
            <a:off x="3949560" y="-3240"/>
            <a:ext cx="3062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9"/>
          <p:cNvSpPr/>
          <p:nvPr/>
        </p:nvSpPr>
        <p:spPr>
          <a:xfrm>
            <a:off x="3949560" y="8815320"/>
            <a:ext cx="306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7800"/>
                <a:tab algn="l" pos="2955960"/>
                <a:tab algn="l" pos="4433760"/>
                <a:tab algn="l" pos="5911920"/>
                <a:tab algn="l" pos="7389720"/>
                <a:tab algn="l" pos="8867880"/>
                <a:tab algn="l" pos="10345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0"/>
          <p:cNvSpPr/>
          <p:nvPr/>
        </p:nvSpPr>
        <p:spPr>
          <a:xfrm>
            <a:off x="-1440" y="8815320"/>
            <a:ext cx="3027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1"/>
          <p:cNvSpPr/>
          <p:nvPr/>
        </p:nvSpPr>
        <p:spPr>
          <a:xfrm>
            <a:off x="-1440" y="-3240"/>
            <a:ext cx="30272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68400" bIns="68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Intr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, list key personnel for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functional requirements, NOT technical. Functional requirements should be general, not specific. Functional requirements come from non IT management, when possible. Conversely, technical requirements should come from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nswers on the Planning and Design requirements gathering document showed the customer didn’t clearly understand the logical architecture, these next 3 slides are included for education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always list benefits toward the beginning of every presentation. This has been proven a best practice. These are generic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2320" y="4401720"/>
            <a:ext cx="5129280" cy="418140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66960" bIns="66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and Planning document showed a weakness in the understanding of managed paths. When a weakness occurs, it should be covered in the initial design review. Otherwise, just put in the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9F1-07B8-4BE3-8D64-B45C7CCB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15-F3BD-4691-A8C3-A47189B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C6E-49D7-41E3-A9E9-6DD4B94D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500-3205-40DC-B5EE-E7E2E0E8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A09-8427-4015-BA0B-33534AF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7A1-2D30-4C4E-882C-D6C87A41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ABE-0269-4643-863F-D2FF0E81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5FC-7E20-411A-9F6C-450D3EDC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DDC-4E50-4BC3-8534-EA874C88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ED5-01E2-4002-8077-00A11B41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D09-231E-4F2E-9A9D-A3B9D6D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65F-0346-4EB8-B5D6-970A535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025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7092-3ACE-41C0-B993-C2ACCF0909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ortal.acme.org/shipping/sitename" TargetMode="External"/><Relationship Id="rId2" Type="http://schemas.openxmlformats.org/officeDocument/2006/relationships/hyperlink" Target="http://portal.acme.org/sales/sitename" TargetMode="External"/><Relationship Id="rId3" Type="http://schemas.openxmlformats.org/officeDocument/2006/relationships/hyperlink" Target="http://portal.acme.org/HR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ortal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ortal.acme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001000" cy="33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cme Corp Shar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Design and Plan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b 1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165240" y="457200"/>
            <a:ext cx="3211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me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7"/>
          <p:cNvSpPr/>
          <p:nvPr/>
        </p:nvSpPr>
        <p:spPr>
          <a:xfrm>
            <a:off x="4805280" y="5070600"/>
            <a:ext cx="33418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 Mindsharp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le Grove,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Structure and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Paths on the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use the default /sites/ managed path for enterprise team site collections on th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a portal site collection in the root of th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1 divisions will have their own managed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rtal.acme.org/shipping/sit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rtal.acme.org/sales/sit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functions will have managed path embedded site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ortal.acme.org/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Structure and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d paths in the Collaboration Web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tes will use /sites/ manage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shing template is applied in the / managed path with directions on how to create team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unused site dele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asic end-user help and educ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should it incl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Structure and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site directory in the portal root sit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ite definitions to include link to corporate intranet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dd/delete of sites on the collaborative Web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Link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link bars should have targeted links based on TBD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Structure and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basic business processes with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I targe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workflows for public-facing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 Files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egal and accounting docs should be sent to records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Types an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libraries and folders should provide correlating 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Document library should contain templates for HR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entrally manage content types with fea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centrally manage permission levels with fea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Types an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migrate current paper forms to Info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approve uploads of images to conform to corporate poli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controls should be implemented to limit ver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levels (reader, contributor, auditing, etc.) should be consistent across sit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levels naming convention should match current Active Director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‘Create subsite’ permission level from collaborative Web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ermission levels required for all site collections. Define in sit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Owners and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vision will be responsible for administrating their own sit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Active Directory for integrating with identity m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irector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D groups when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is break any functiona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304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NTLM and Kerberos in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LM and Basic over SSL externally. ReadOnly on external Zone via Web App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VPN access for remote writes or sit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NTLM and Kerberos in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LM and Basic over SSL ex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wners should also be data owners to conform with corporat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administrator should request site owner permission to add users o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xtend the portal to an external Web application using different authentication and utilize Zone to force read-only externa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VPN usage for write access and critical, NDA, corporat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desk should be able to add/remove accounts, except for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47680" y="1200240"/>
            <a:ext cx="8648640" cy="56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me: SharePoint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: Acme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wn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ah Do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System/Project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effective document collaboration via a Web-based solution. Must include versioning and recycle bin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3128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Securit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xtranet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cme Extranet"/>
          <p:cNvPicPr/>
          <p:nvPr/>
        </p:nvPicPr>
        <p:blipFill>
          <a:blip r:embed="rId1"/>
          <a:stretch/>
        </p:blipFill>
        <p:spPr>
          <a:xfrm>
            <a:off x="2152800" y="1535040"/>
            <a:ext cx="4809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erver will use internal SMTP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Z/Screened Subnet servers will use external SMTP server in DM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for sharepoint groups to enable user controlled distribution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 incoming e-mail to document libraries in Phase I. Train users, define approvals, and enable these features in Phas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Creation and Mainte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corporate portal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te creation is administrative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ites approved by CIO will be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BD collaborative Web application, we will enable self-service site creation in the root sit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unused site collection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site usage after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working group to define conten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irewall rules to crawl enterprise-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at file shares to cra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data owner’s permission on content sources to cra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cluded content – work with HR and 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ing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ll conten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h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Point 2003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ser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ccess account creation and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NOT be domain adm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wler impact rule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ing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ile types to cra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hand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HTTP, HTTPS, File, Docu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crawled content can be accessed by users – open firewall rules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ing 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Filter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outside of backup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crawls with impact rules if a slow time cannot be agreed u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wling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earch e-mai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should not be admin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someone on the search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nd verify proxy server’s ability to crawl internal and extern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server will not crawl content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firewall rules for crawling W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WFEs as craw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bility to use proxy server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firewall rules for access to content sources as needed for proxy ex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WFEs as Quer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Index server as Query –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ault tolerance should the Index server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ndex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nd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wo S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ACLs on File Sh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entrally managed personal collabo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1GB of storage per user in a persona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20k users – both My Site and Site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both self-service site management and IT controlled site cre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understand impact to the Wide Are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with current Directory and E-Mai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with Microsoft Office 2003 and Microsoft Offic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ultiple browsers and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plan for a Development and Tes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Point Se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 old product #s with new product #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Servic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Plann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two SSPs due to Enterprise and Legal/HR content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e index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index directories with SSP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will be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/HR SSP will not use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will use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Point Groups via email enabled distribution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Servic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an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rofiles Import (Enterprise S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from multiple Active Directory 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ustom impor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people-picker from all AD 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ites (Enterprise S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y Site Web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by Enterprise S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subsites in My Sites Web application permiss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telligence and EC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Repor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with Excel Cal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SQL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ECS only for Legal and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up &amp; Re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2440" y="161136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unctionality includes native 2 Stage Recycle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not permanently delet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is permanently deleted after 60 days or defined file system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backup will be for DR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age frame for backup-to-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delta for nightly incremental back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covery is only restor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tage Recycle Bins are used for delet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atabase restores can take several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Logical Architectu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Web Front-end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ort crawling and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disk space for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Certificates loaded in I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farm is 1gigabi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Applicati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isting Load Bal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 SQL Server 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 instance to support entire implementation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Phase Architecture 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cme Phase 1"/>
          <p:cNvPicPr/>
          <p:nvPr/>
        </p:nvPicPr>
        <p:blipFill>
          <a:blip r:embed="rId1"/>
          <a:stretch/>
        </p:blipFill>
        <p:spPr>
          <a:xfrm>
            <a:off x="1362240" y="1258920"/>
            <a:ext cx="6183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Logical Architecu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1600" y="131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support collaborative team sites for enter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for full user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existing fabric and new storag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QL Serve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ctive SQL Servers will support 20,00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assive SQL Serv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Phase Architecture 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Acme Phase 2"/>
          <p:cNvPicPr/>
          <p:nvPr/>
        </p:nvPicPr>
        <p:blipFill>
          <a:blip r:embed="rId1"/>
          <a:stretch/>
        </p:blipFill>
        <p:spPr>
          <a:xfrm>
            <a:off x="1276200" y="1154160"/>
            <a:ext cx="65916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Logical Architecu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current Enterprise Portal to new farm and upgrade content DBs t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 impact – current Portal site usage ~300GB stor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sily scale in new far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w SSP and rebuild all profiles, Indexes, content sourc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Point Technologie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68400" y="1198440"/>
            <a:ext cx="72975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Phase Architecture 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Acme Phase 3"/>
          <p:cNvPicPr/>
          <p:nvPr/>
        </p:nvPicPr>
        <p:blipFill>
          <a:blip r:embed="rId1"/>
          <a:stretch/>
        </p:blipFill>
        <p:spPr>
          <a:xfrm>
            <a:off x="1395360" y="1122480"/>
            <a:ext cx="49514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 will vary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info from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&amp;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Custom Online Course for En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Administ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ouse or Su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 15, 2007 – Project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 15, 2007 – Design and planning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 15, 2008 – Initial 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 15, 2008 – Implementation 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s 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it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 view generating excess traff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Point Technologie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76320" y="1065240"/>
            <a:ext cx="7392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Point Technologies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203480" y="1085760"/>
            <a:ext cx="70815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1281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nd secur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ing of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workspace integration with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and Record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ed and search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flow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current Activ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er us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8080" y="1461600"/>
            <a:ext cx="8845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usage has yet to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vision will manage their ow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ly controlled version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calenda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Approx. 20k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will have a My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intosh, Windows, Linux, Sun, HP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ari, IE 6 and 7, Netscape, 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and Site Collection Planni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Structure and Publis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d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d path is used as a location to create sit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 explicit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of a Web application, i.e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ortal.acme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 implicit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ite collections in the path, i.e. http://www.portal.acme.org/sites/sit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5T11:38:40Z</dcterms:created>
  <dc:creator>Ben Curry</dc:creator>
  <dc:description/>
  <cp:keywords/>
  <dc:language>en-US</dc:language>
  <cp:lastModifiedBy>Benjamin D. Curry</cp:lastModifiedBy>
  <cp:lastPrinted>2001-05-10T11:28:27Z</cp:lastPrinted>
  <dcterms:modified xsi:type="dcterms:W3CDTF">2008-04-10T02:12:06Z</dcterms:modified>
  <cp:revision>27691</cp:revision>
  <dc:subject/>
  <dc:title>Acme Gathering Requir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81</vt:lpwstr>
  </property>
  <property fmtid="{D5CDD505-2E9C-101B-9397-08002B2CF9AE}" pid="3" name="Status">
    <vt:lpwstr>Final</vt:lpwstr>
  </property>
</Properties>
</file>