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5E3E-8948-4066-8723-DD5339A2804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10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6319-EA88-4794-98D2-4FFFDF9D33DC}" type="slidenum">
              <a:rPr b="0" lang="de-DE" sz="12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410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3618-D439-413E-A5E9-8B84255795DF}" type="slidenum">
              <a:rPr b="0" lang="de-DE" sz="12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410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3B31-BDDC-4184-A14B-29E7B4D1A8A2}" type="slidenum">
              <a:rPr b="0" lang="de-DE" sz="12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410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D3F7-7D94-4B0A-9C07-F4A5DBC80FA0}" type="slidenum">
              <a:rPr b="0" lang="de-DE" sz="12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410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ACD2-08BC-425E-9909-00B33B896394}" type="slidenum">
              <a:rPr b="0" lang="de-DE" sz="12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410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6B6A-E6F3-46A1-A430-DBFFB4379F6D}" type="slidenum">
              <a:rPr b="0" lang="de-DE" sz="12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10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5D3F-B140-424A-8C4C-CDF22EFAAF97}" type="slidenum">
              <a:rPr b="0" lang="de-DE" sz="12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410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07F8-9513-4CA8-AD90-251E40C731CA}" type="slidenum">
              <a:rPr b="0" lang="de-DE" sz="12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410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856C-2D46-4C30-B671-51DF4F891310}" type="slidenum">
              <a:rPr b="0" lang="de-DE" sz="12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10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F2BD-AA01-4417-8A4A-8E219B5E9208}" type="slidenum">
              <a:rPr b="0" lang="de-DE" sz="12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410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ABB1-03CF-412E-975F-EED04AEE05D2}" type="slidenum">
              <a:rPr b="0" lang="de-DE" sz="12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410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46DF-3468-456B-A6E0-EC1B2E94F22E}" type="slidenum">
              <a:rPr b="0" lang="de-DE" sz="12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10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ABB8-B9CE-4777-BC1C-5A426AA60848}" type="slidenum">
              <a:rPr b="0" lang="de-DE" sz="12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410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0396-1909-44FA-A651-B0E35020251F}" type="slidenum">
              <a:rPr b="0" lang="de-DE" sz="12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410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345A-1416-4CF3-915A-C3B5F0D86CF8}" type="slidenum">
              <a:rPr b="0" lang="de-DE" sz="12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10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6EE6-48E8-4286-8C15-70101A24C8C4}" type="slidenum">
              <a:rPr b="0" lang="de-DE" sz="12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10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62A0-B225-457A-822D-8374223EA39A}" type="slidenum">
              <a:rPr b="0" lang="de-DE" sz="12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A958-8CD0-4270-BC87-27940CC11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247320"/>
            <a:ext cx="7621560" cy="13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7621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69800" y="3826080"/>
            <a:ext cx="7621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4308-4B82-4512-8CC2-BC0996E2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247320"/>
            <a:ext cx="7621560" cy="13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3719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75440" y="1676520"/>
            <a:ext cx="3719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69800" y="3826080"/>
            <a:ext cx="3719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75440" y="3826080"/>
            <a:ext cx="3719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79C1-E4DD-4646-BF7F-6B419BDE6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69800" y="247320"/>
            <a:ext cx="7621560" cy="13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2453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46680" y="1676520"/>
            <a:ext cx="2453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23560" y="1676520"/>
            <a:ext cx="2453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69800" y="3826080"/>
            <a:ext cx="2453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46680" y="3826080"/>
            <a:ext cx="2453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23560" y="3826080"/>
            <a:ext cx="2453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E5DB-A838-4A44-8BD4-A1198EFDD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36CE-0D35-41D3-99EA-1FD02854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247320"/>
            <a:ext cx="7621560" cy="13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69800" y="1676520"/>
            <a:ext cx="7621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BD16-26DC-4270-A211-0243E1AB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247320"/>
            <a:ext cx="7621560" cy="13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7621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01A2-B6FA-4198-8E2C-6202D24F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247320"/>
            <a:ext cx="7621560" cy="13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3719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5440" y="1676520"/>
            <a:ext cx="3719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1803-5D15-43FC-9A84-51DA8982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247320"/>
            <a:ext cx="7621560" cy="13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BBFE-C831-493F-A0EB-54B8395D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69800" y="247320"/>
            <a:ext cx="7621560" cy="62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DE1D-F149-4EBC-9666-0AABEC47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247320"/>
            <a:ext cx="7621560" cy="13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3719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75440" y="1676520"/>
            <a:ext cx="3719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69800" y="3826080"/>
            <a:ext cx="3719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0AC3-E8F5-4182-8854-74755F40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247320"/>
            <a:ext cx="7621560" cy="13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69800" y="1676520"/>
            <a:ext cx="7621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6C71-1DF3-479E-AF62-136DA971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247320"/>
            <a:ext cx="7621560" cy="13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3719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5440" y="1676520"/>
            <a:ext cx="3719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75440" y="3826080"/>
            <a:ext cx="3719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A8F4-5200-4AB4-9B85-7EE6CECF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247320"/>
            <a:ext cx="7621560" cy="13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3719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5440" y="1676520"/>
            <a:ext cx="3719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826080"/>
            <a:ext cx="7621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A6FB-2791-41DF-8E1B-18310BBD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247320"/>
            <a:ext cx="7621560" cy="13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7621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69800" y="3826080"/>
            <a:ext cx="7621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1334-BCF7-4D85-A694-45A541BC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247320"/>
            <a:ext cx="7621560" cy="13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3719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75440" y="1676520"/>
            <a:ext cx="3719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9800" y="3826080"/>
            <a:ext cx="3719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75440" y="3826080"/>
            <a:ext cx="3719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C630-52F9-415B-B65C-7A6E43A86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69800" y="247320"/>
            <a:ext cx="7621560" cy="13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2453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46680" y="1676520"/>
            <a:ext cx="2453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23560" y="1676520"/>
            <a:ext cx="2453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69800" y="3826080"/>
            <a:ext cx="2453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46680" y="3826080"/>
            <a:ext cx="2453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23560" y="3826080"/>
            <a:ext cx="2453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340B-7C3B-47AE-B3F3-864E70D7B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9800" y="247320"/>
            <a:ext cx="7621560" cy="13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7621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98F5-C360-4A76-870E-C5AF4E81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247320"/>
            <a:ext cx="7621560" cy="13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3719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5440" y="1676520"/>
            <a:ext cx="3719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2433-D1C6-4167-BC06-47E80AE1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247320"/>
            <a:ext cx="7621560" cy="13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34FE-945C-4234-99AD-28A5445C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69800" y="247320"/>
            <a:ext cx="7621560" cy="62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74C7-1FD9-4AF3-8421-289663FB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247320"/>
            <a:ext cx="7621560" cy="13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3719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5440" y="1676520"/>
            <a:ext cx="3719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69800" y="3826080"/>
            <a:ext cx="3719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06F0-DB92-4C2C-A09D-AF4C87A5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247320"/>
            <a:ext cx="7621560" cy="13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3719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5440" y="1676520"/>
            <a:ext cx="3719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75440" y="3826080"/>
            <a:ext cx="3719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40B5-060B-4D8E-AB15-C2F80695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247320"/>
            <a:ext cx="7621560" cy="13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3719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5440" y="1676520"/>
            <a:ext cx="3719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69800" y="3826080"/>
            <a:ext cx="7621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D4CF-2BF8-4CBF-BC2C-BB28E28C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2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69800" y="247320"/>
            <a:ext cx="7621560" cy="13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69800" y="1676520"/>
            <a:ext cx="7621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0C61-2FFA-4E39-A736-3D93CC965F24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375B-43D2-45FA-B50D-AC78E38EED3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2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" name="Arc 3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247320"/>
            <a:ext cx="7621560" cy="13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69800" y="1676520"/>
            <a:ext cx="7621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0E91-7592-4172-ACB0-1A96EFDC92FA}" type="datetime">
              <a:rPr b="0" lang="de-DE" sz="1400" spc="-1" strike="noStrike">
                <a:solidFill>
                  <a:srgbClr val="336699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90EE-079E-4312-9A9D-946D5028E7AF}" type="slidenum">
              <a:rPr b="0" lang="de-DE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9"/>
          <p:cNvSpPr/>
          <p:nvPr/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EF8C-6FFB-458F-84F4-125978A9B4D0}" type="datetime">
              <a:rPr b="0" lang="de-DE" sz="1400" spc="-1" strike="noStrike">
                <a:solidFill>
                  <a:srgbClr val="336699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25EC-DDDB-4BB4-8A1A-5AD2F9B7A045}" type="slidenum">
              <a:rPr b="0" lang="de-DE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228600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ff"/>
                </a:solidFill>
                <a:latin typeface="Times New Roman"/>
              </a:rPr>
              <a:t>Das neue Produkt 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62485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6699"/>
                </a:solidFill>
                <a:latin typeface="Arial"/>
              </a:rPr>
              <a:t>Der Autor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Datumsplatzhalter 3"/>
          <p:cNvSpPr/>
          <p:nvPr/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072C-62CE-4C4F-B46B-15F2DA531F0A}" type="datetime">
              <a:rPr b="0" lang="de-DE" sz="1400" spc="-1" strike="noStrike">
                <a:solidFill>
                  <a:srgbClr val="336699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9" name="Foliennummernplatzhalter 5"/>
          <p:cNvSpPr/>
          <p:nvPr/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99C8-AFFC-469C-810C-1ADC3CEC5945}" type="slidenum">
              <a:rPr b="0" lang="de-DE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247320"/>
            <a:ext cx="7621560" cy="13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ff"/>
                </a:solidFill>
                <a:latin typeface="Times New Roman"/>
              </a:rPr>
              <a:t>Werbung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7621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6699"/>
                </a:solidFill>
                <a:latin typeface="Arial"/>
              </a:rPr>
              <a:t>Strategie &amp; Ausführung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6699"/>
                </a:solidFill>
                <a:latin typeface="Arial"/>
              </a:rPr>
              <a:t>Übersicht der Strategie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6699"/>
                </a:solidFill>
                <a:latin typeface="Arial"/>
              </a:rPr>
              <a:t>Übersicht der Medien &amp; Zeitplan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6699"/>
                </a:solidFill>
                <a:latin typeface="Arial"/>
              </a:rPr>
              <a:t>Übersicht der Werbeausgaben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Datumsplatzhalter 3"/>
          <p:cNvSpPr/>
          <p:nvPr/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B783-72A6-4A27-9127-4DE36E117BB1}" type="datetime">
              <a:rPr b="0" lang="de-DE" sz="1400" spc="-1" strike="noStrike">
                <a:solidFill>
                  <a:srgbClr val="336699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3" name="Foliennummernplatzhalter 5"/>
          <p:cNvSpPr/>
          <p:nvPr/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D61E-A7DF-4C41-8336-B7EA21299250}" type="slidenum">
              <a:rPr b="0" lang="de-DE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247320"/>
            <a:ext cx="7621560" cy="13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ff"/>
                </a:solidFill>
                <a:latin typeface="Times New Roman"/>
              </a:rPr>
              <a:t>Andere Werbemittel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7621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6699"/>
                </a:solidFill>
                <a:latin typeface="Arial"/>
              </a:rPr>
              <a:t>Direkt-Marketing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Übersicht der Strategie, Werbeträger &amp; Terminierung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Übersicht der erwarteten Reaktionen, Ziele &amp; Budget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6699"/>
                </a:solidFill>
                <a:latin typeface="Arial"/>
              </a:rPr>
              <a:t>Marketing durch Dritte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Gemeinsame Marketingabkommen mit anderen Firmen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6699"/>
                </a:solidFill>
                <a:latin typeface="Arial"/>
              </a:rPr>
              <a:t>Marketingprogramme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Andere Werbeprogramme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Datumsplatzhalter 3"/>
          <p:cNvSpPr/>
          <p:nvPr/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CA53-376B-4655-A970-B4EB9F68FEC2}" type="datetime">
              <a:rPr b="0" lang="de-DE" sz="1400" spc="-1" strike="noStrike">
                <a:solidFill>
                  <a:srgbClr val="336699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7" name="Foliennummernplatzhalter 5"/>
          <p:cNvSpPr/>
          <p:nvPr/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C4FA-4821-44C8-8FC2-AF3BCB3149D4}" type="slidenum">
              <a:rPr b="0" lang="de-DE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69800" y="247320"/>
            <a:ext cx="7621560" cy="13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ff"/>
                </a:solidFill>
                <a:latin typeface="Times New Roman"/>
              </a:rPr>
              <a:t>Preislist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7621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6699"/>
                </a:solidFill>
                <a:latin typeface="Arial"/>
              </a:rPr>
              <a:t>Preisliste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6699"/>
                </a:solidFill>
                <a:latin typeface="Arial"/>
              </a:rPr>
              <a:t>Fassen Sie spezifische Preise oder Preisstrategien zusammen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6699"/>
                </a:solidFill>
                <a:latin typeface="Arial"/>
              </a:rPr>
              <a:t>Vergleich mit ähnlichen Produkten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6699"/>
                </a:solidFill>
                <a:latin typeface="Arial"/>
              </a:rPr>
              <a:t>Richtlinien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6699"/>
                </a:solidFill>
                <a:latin typeface="Arial"/>
              </a:rPr>
              <a:t>Fassen Sie die Richtlinien zum Verständnis der wichtigsten Preisfestsetzungen zusammen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umsplatzhalter 3"/>
          <p:cNvSpPr/>
          <p:nvPr/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9D33-F4E4-4200-A39A-191CC6FEC756}" type="datetime">
              <a:rPr b="0" lang="de-DE" sz="1400" spc="-1" strike="noStrike">
                <a:solidFill>
                  <a:srgbClr val="336699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1" name="Foliennummernplatzhalter 5"/>
          <p:cNvSpPr/>
          <p:nvPr/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5EDB-C9D4-44AE-92D9-B70B4FE7C5D6}" type="slidenum">
              <a:rPr b="0" lang="de-DE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247320"/>
            <a:ext cx="7621560" cy="13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ff"/>
                </a:solidFill>
                <a:latin typeface="Times New Roman"/>
              </a:rPr>
              <a:t>Vertrieb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7621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6699"/>
                </a:solidFill>
                <a:latin typeface="Arial"/>
              </a:rPr>
              <a:t>Vertriebsstrategie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6699"/>
                </a:solidFill>
                <a:latin typeface="Arial"/>
              </a:rPr>
              <a:t>Vertriebskanäle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6699"/>
                </a:solidFill>
                <a:latin typeface="Arial"/>
              </a:rPr>
              <a:t>Fassen Sie die Vertriebskanäle zusammen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6699"/>
                </a:solidFill>
                <a:latin typeface="Arial"/>
              </a:rPr>
              <a:t>Vertriebsanteile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6699"/>
                </a:solidFill>
                <a:latin typeface="Arial"/>
              </a:rPr>
              <a:t>Zeigen Sie einen Plan mit dem Prozentanteil jedes Vertriebskanals - ein Kreisdiagramm kann dabei helfen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umsplatzhalter 3"/>
          <p:cNvSpPr/>
          <p:nvPr/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231D-59CD-41B6-8DA4-D7648C70D545}" type="datetime">
              <a:rPr b="0" lang="de-DE" sz="1400" spc="-1" strike="noStrike">
                <a:solidFill>
                  <a:srgbClr val="336699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5" name="Foliennummernplatzhalter 5"/>
          <p:cNvSpPr/>
          <p:nvPr/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4047-E53B-477D-809F-537B6D93F927}" type="slidenum">
              <a:rPr b="0" lang="de-DE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69800" y="247320"/>
            <a:ext cx="7621560" cy="13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ff"/>
                </a:solidFill>
                <a:latin typeface="Times New Roman"/>
              </a:rPr>
              <a:t>Vertikale Märkt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7621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6699"/>
                </a:solidFill>
                <a:latin typeface="Arial"/>
              </a:rPr>
              <a:t>Chancen auf vertikalen Märkten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6699"/>
                </a:solidFill>
                <a:latin typeface="Arial"/>
              </a:rPr>
              <a:t>Diskutieren Sie Chancen in spezifischen Marktbereichen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6699"/>
                </a:solidFill>
                <a:latin typeface="Arial"/>
              </a:rPr>
              <a:t>Gehen Sie auf die Vertriebsstrategien für solche Märkte oder Bereiche ein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6699"/>
                </a:solidFill>
                <a:latin typeface="Arial"/>
              </a:rPr>
              <a:t>Gehen Sie auf die Rolle von firmenexternen Partnern beim Vertrieb in vertikalen Märkten ein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Datumsplatzhalter 3"/>
          <p:cNvSpPr/>
          <p:nvPr/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B185-E7B3-4F3F-86E2-C2FD728E4036}" type="datetime">
              <a:rPr b="0" lang="de-DE" sz="1400" spc="-1" strike="noStrike">
                <a:solidFill>
                  <a:srgbClr val="336699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9" name="Foliennummernplatzhalter 5"/>
          <p:cNvSpPr/>
          <p:nvPr/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C568-736F-438F-BDD3-92891AA1D91E}" type="slidenum">
              <a:rPr b="0" lang="de-DE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69800" y="247320"/>
            <a:ext cx="7621560" cy="13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ff"/>
                </a:solidFill>
                <a:latin typeface="Times New Roman"/>
              </a:rPr>
              <a:t>International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7621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6699"/>
                </a:solidFill>
                <a:latin typeface="Arial"/>
              </a:rPr>
              <a:t>Internationaler Vertrieb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6699"/>
                </a:solidFill>
                <a:latin typeface="Arial"/>
              </a:rPr>
              <a:t>Gehen Sie auf Vertriebsstrategien ein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6699"/>
                </a:solidFill>
                <a:latin typeface="Arial"/>
              </a:rPr>
              <a:t>Diskutieren Sie Aspekte des internationalen Vertriebs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6699"/>
                </a:solidFill>
                <a:latin typeface="Arial"/>
              </a:rPr>
              <a:t>Internationale Preisstrategie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6699"/>
                </a:solidFill>
                <a:latin typeface="Arial"/>
              </a:rPr>
              <a:t>Lokalisierungsaspekte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6699"/>
                </a:solidFill>
                <a:latin typeface="Arial"/>
              </a:rPr>
              <a:t>Heben Sie die Anforderungen für lokale Produktvarianten hervor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umsplatzhalter 3"/>
          <p:cNvSpPr/>
          <p:nvPr/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16F0-6115-4BE9-B2FA-B15B4F853574}" type="datetime">
              <a:rPr b="0" lang="de-DE" sz="1400" spc="-1" strike="noStrike">
                <a:solidFill>
                  <a:srgbClr val="336699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3" name="Foliennummernplatzhalter 5"/>
          <p:cNvSpPr/>
          <p:nvPr/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17CD-4020-4CB3-9219-1FCB1FE743EA}" type="slidenum">
              <a:rPr b="0" lang="de-DE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9800" y="247320"/>
            <a:ext cx="7621560" cy="13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ff"/>
                </a:solidFill>
                <a:latin typeface="Times New Roman"/>
              </a:rPr>
              <a:t>Erfolgskriterien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7621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6699"/>
                </a:solidFill>
                <a:latin typeface="Arial"/>
              </a:rPr>
              <a:t>Ziele im ersten Jahr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6699"/>
                </a:solidFill>
                <a:latin typeface="Arial"/>
              </a:rPr>
              <a:t>Ziele in den folgenden Jahren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6699"/>
                </a:solidFill>
                <a:latin typeface="Arial"/>
              </a:rPr>
              <a:t>Anhaltspunkte für Erfolg/Misserfolg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6699"/>
                </a:solidFill>
                <a:latin typeface="Arial"/>
              </a:rPr>
              <a:t>Erfolgsvoraussetzungen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Datumsplatzhalter 3"/>
          <p:cNvSpPr/>
          <p:nvPr/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14FF-7CF5-49F3-B410-742DD986C5B6}" type="datetime">
              <a:rPr b="0" lang="de-DE" sz="1400" spc="-1" strike="noStrike">
                <a:solidFill>
                  <a:srgbClr val="336699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7" name="Foliennummernplatzhalter 5"/>
          <p:cNvSpPr/>
          <p:nvPr/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27D1-7688-4FFB-A399-A4C1AD66C021}" type="slidenum">
              <a:rPr b="0" lang="de-DE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69800" y="247320"/>
            <a:ext cx="7621560" cy="13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ff"/>
                </a:solidFill>
                <a:latin typeface="Times New Roman"/>
              </a:rPr>
              <a:t>Termin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7621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6699"/>
                </a:solidFill>
                <a:latin typeface="Arial"/>
              </a:rPr>
              <a:t>Wichtige Termine in den nächsten 18 Monaten. Heben Sie Termine hervor, deren Einhaltung für den Erfolg wesentlich ist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20" name="Group 5"/>
          <p:cNvGrpSpPr/>
          <p:nvPr/>
        </p:nvGrpSpPr>
        <p:grpSpPr>
          <a:xfrm>
            <a:off x="1829520" y="4038480"/>
            <a:ext cx="6476040" cy="2262960"/>
            <a:chOff x="1829520" y="4038480"/>
            <a:chExt cx="6476040" cy="2262960"/>
          </a:xfrm>
        </p:grpSpPr>
        <p:grpSp>
          <p:nvGrpSpPr>
            <p:cNvPr id="221" name="Group 6"/>
            <p:cNvGrpSpPr/>
            <p:nvPr/>
          </p:nvGrpSpPr>
          <p:grpSpPr>
            <a:xfrm>
              <a:off x="1829520" y="5638680"/>
              <a:ext cx="6476040" cy="662760"/>
              <a:chOff x="1829520" y="5638680"/>
              <a:chExt cx="6476040" cy="662760"/>
            </a:xfrm>
          </p:grpSpPr>
          <p:sp>
            <p:nvSpPr>
              <p:cNvPr id="222" name="AutoShape 7"/>
              <p:cNvSpPr/>
              <p:nvPr/>
            </p:nvSpPr>
            <p:spPr>
              <a:xfrm>
                <a:off x="1904760" y="5638680"/>
                <a:ext cx="6400800" cy="486000"/>
              </a:xfrm>
              <a:prstGeom prst="rightArrow">
                <a:avLst>
                  <a:gd name="adj1" fmla="val 36602"/>
                  <a:gd name="adj2" fmla="val 54145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99ffcc"/>
                  </a:gs>
                </a:gsLst>
                <a:lin ang="0"/>
              </a:gradFill>
              <a:ln w="0">
                <a:noFill/>
              </a:ln>
              <a:effectLst>
                <a:outerShdw dist="17819" dir="2700000" blurRad="0" rotWithShape="0">
                  <a:srgbClr val="3d7a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23" name="Text Box 8"/>
              <p:cNvSpPr/>
              <p:nvPr/>
            </p:nvSpPr>
            <p:spPr>
              <a:xfrm>
                <a:off x="1829520" y="5994360"/>
                <a:ext cx="48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6699"/>
                    </a:solidFill>
                    <a:latin typeface="Arial"/>
                  </a:rPr>
                  <a:t>Jan</a:t>
                </a:r>
                <a:endParaRPr b="0" lang="en-US" sz="1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24" name="Text Box 9"/>
              <p:cNvSpPr/>
              <p:nvPr/>
            </p:nvSpPr>
            <p:spPr>
              <a:xfrm>
                <a:off x="2356920" y="5994360"/>
                <a:ext cx="49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6699"/>
                    </a:solidFill>
                    <a:latin typeface="Arial"/>
                  </a:rPr>
                  <a:t>Feb</a:t>
                </a:r>
                <a:endParaRPr b="0" lang="en-US" sz="1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25" name="Text Box 10"/>
              <p:cNvSpPr/>
              <p:nvPr/>
            </p:nvSpPr>
            <p:spPr>
              <a:xfrm>
                <a:off x="2917080" y="5994360"/>
                <a:ext cx="49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336699"/>
                    </a:solidFill>
                    <a:latin typeface="Arial"/>
                  </a:rPr>
                  <a:t>Mär</a:t>
                </a:r>
                <a:endParaRPr b="0" lang="en-US" sz="1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26" name="Text Box 11"/>
              <p:cNvSpPr/>
              <p:nvPr/>
            </p:nvSpPr>
            <p:spPr>
              <a:xfrm>
                <a:off x="3513240" y="5994360"/>
                <a:ext cx="48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6699"/>
                    </a:solidFill>
                    <a:latin typeface="Arial"/>
                  </a:rPr>
                  <a:t>Apr</a:t>
                </a:r>
                <a:endParaRPr b="0" lang="en-US" sz="1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27" name="Text Box 12"/>
              <p:cNvSpPr/>
              <p:nvPr/>
            </p:nvSpPr>
            <p:spPr>
              <a:xfrm>
                <a:off x="4083480" y="599436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6699"/>
                    </a:solidFill>
                    <a:latin typeface="Arial"/>
                  </a:rPr>
                  <a:t>Mai</a:t>
                </a:r>
                <a:endParaRPr b="0" lang="en-US" sz="1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28" name="Text Box 13"/>
              <p:cNvSpPr/>
              <p:nvPr/>
            </p:nvSpPr>
            <p:spPr>
              <a:xfrm>
                <a:off x="4714200" y="5994360"/>
                <a:ext cx="49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6699"/>
                    </a:solidFill>
                    <a:latin typeface="Arial"/>
                  </a:rPr>
                  <a:t>Jun</a:t>
                </a:r>
                <a:endParaRPr b="0" lang="en-US" sz="1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29" name="Text Box 14"/>
              <p:cNvSpPr/>
              <p:nvPr/>
            </p:nvSpPr>
            <p:spPr>
              <a:xfrm>
                <a:off x="5250960" y="5994360"/>
                <a:ext cx="883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6699"/>
                    </a:solidFill>
                    <a:latin typeface="Arial"/>
                  </a:rPr>
                  <a:t>Jul  Aug</a:t>
                </a:r>
                <a:endParaRPr b="0" lang="en-US" sz="1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30" name="Text Box 15"/>
              <p:cNvSpPr/>
              <p:nvPr/>
            </p:nvSpPr>
            <p:spPr>
              <a:xfrm>
                <a:off x="5846040" y="5994360"/>
                <a:ext cx="70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6699"/>
                    </a:solidFill>
                    <a:latin typeface="Arial"/>
                  </a:rPr>
                  <a:t>    </a:t>
                </a:r>
                <a:r>
                  <a:rPr b="1" lang="en-US" sz="1400" spc="-1" strike="noStrike">
                    <a:solidFill>
                      <a:srgbClr val="336699"/>
                    </a:solidFill>
                    <a:latin typeface="Arial"/>
                  </a:rPr>
                  <a:t>Sep</a:t>
                </a:r>
                <a:endParaRPr b="0" lang="en-US" sz="1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31" name="Text Box 16"/>
              <p:cNvSpPr/>
              <p:nvPr/>
            </p:nvSpPr>
            <p:spPr>
              <a:xfrm>
                <a:off x="6406560" y="5994360"/>
                <a:ext cx="578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336699"/>
                    </a:solidFill>
                    <a:latin typeface="Arial"/>
                  </a:rPr>
                  <a:t>  </a:t>
                </a:r>
                <a:r>
                  <a:rPr b="1" lang="de-DE" sz="1400" spc="-1" strike="noStrike">
                    <a:solidFill>
                      <a:srgbClr val="336699"/>
                    </a:solidFill>
                    <a:latin typeface="Arial"/>
                  </a:rPr>
                  <a:t>Okt</a:t>
                </a:r>
                <a:endParaRPr b="0" lang="en-US" sz="1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32" name="Text Box 17"/>
              <p:cNvSpPr/>
              <p:nvPr/>
            </p:nvSpPr>
            <p:spPr>
              <a:xfrm>
                <a:off x="6957720" y="5994360"/>
                <a:ext cx="515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6699"/>
                    </a:solidFill>
                    <a:latin typeface="Arial"/>
                  </a:rPr>
                  <a:t>Nov</a:t>
                </a:r>
                <a:endParaRPr b="0" lang="en-US" sz="1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33" name="Text Box 18"/>
              <p:cNvSpPr/>
              <p:nvPr/>
            </p:nvSpPr>
            <p:spPr>
              <a:xfrm>
                <a:off x="7563960" y="5994360"/>
                <a:ext cx="49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336699"/>
                    </a:solidFill>
                    <a:latin typeface="Arial"/>
                  </a:rPr>
                  <a:t>Dez</a:t>
                </a:r>
                <a:endParaRPr b="0" lang="en-US" sz="1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  <p:sp>
          <p:nvSpPr>
            <p:cNvPr id="234" name="AutoShape 19"/>
            <p:cNvSpPr/>
            <p:nvPr/>
          </p:nvSpPr>
          <p:spPr>
            <a:xfrm>
              <a:off x="1904760" y="4343400"/>
              <a:ext cx="2971800" cy="152280"/>
            </a:xfrm>
            <a:prstGeom prst="flowChartProcess">
              <a:avLst/>
            </a:prstGeom>
            <a:solidFill>
              <a:srgbClr val="66ccff"/>
            </a:solidFill>
            <a:ln w="0">
              <a:noFill/>
            </a:ln>
            <a:effectLst>
              <a:outerShdw dist="17819" dir="2700000" blurRad="0" rotWithShape="0">
                <a:srgbClr val="3d7a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336699"/>
                  </a:solidFill>
                  <a:latin typeface="Arial"/>
                </a:rPr>
                <a:t>Aufgabe 2</a:t>
              </a:r>
              <a:endParaRPr b="0" lang="en-US" sz="1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35" name="AutoShape 20"/>
            <p:cNvSpPr/>
            <p:nvPr/>
          </p:nvSpPr>
          <p:spPr>
            <a:xfrm>
              <a:off x="4952880" y="5029200"/>
              <a:ext cx="1905120" cy="152280"/>
            </a:xfrm>
            <a:prstGeom prst="flowChartProcess">
              <a:avLst/>
            </a:prstGeom>
            <a:solidFill>
              <a:srgbClr val="66ccff"/>
            </a:solidFill>
            <a:ln w="0">
              <a:noFill/>
            </a:ln>
            <a:effectLst>
              <a:outerShdw dist="17819" dir="2700000" blurRad="0" rotWithShape="0">
                <a:srgbClr val="3d7a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336699"/>
                  </a:solidFill>
                  <a:latin typeface="Arial"/>
                </a:rPr>
                <a:t>Aufgabe 3</a:t>
              </a:r>
              <a:endParaRPr b="0" lang="en-US" sz="1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36" name="AutoShape 21"/>
            <p:cNvSpPr/>
            <p:nvPr/>
          </p:nvSpPr>
          <p:spPr>
            <a:xfrm>
              <a:off x="6324480" y="5334120"/>
              <a:ext cx="1676520" cy="152280"/>
            </a:xfrm>
            <a:prstGeom prst="flowChartProcess">
              <a:avLst/>
            </a:prstGeom>
            <a:solidFill>
              <a:srgbClr val="66ccff"/>
            </a:solidFill>
            <a:ln w="0">
              <a:noFill/>
            </a:ln>
            <a:effectLst>
              <a:outerShdw dist="17819" dir="2700000" blurRad="0" rotWithShape="0">
                <a:srgbClr val="3d7a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336699"/>
                  </a:solidFill>
                  <a:latin typeface="Arial"/>
                </a:rPr>
                <a:t>Aufgabe 4</a:t>
              </a:r>
              <a:endParaRPr b="0" lang="en-US" sz="1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37" name="AutoShape 22"/>
            <p:cNvSpPr/>
            <p:nvPr/>
          </p:nvSpPr>
          <p:spPr>
            <a:xfrm>
              <a:off x="1904760" y="4038480"/>
              <a:ext cx="1371600" cy="152640"/>
            </a:xfrm>
            <a:prstGeom prst="flowChartProcess">
              <a:avLst/>
            </a:prstGeom>
            <a:solidFill>
              <a:srgbClr val="66ccff"/>
            </a:solidFill>
            <a:ln w="0">
              <a:noFill/>
            </a:ln>
            <a:effectLst>
              <a:outerShdw dist="17819" dir="2700000" blurRad="0" rotWithShape="0">
                <a:srgbClr val="3d7a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336699"/>
                  </a:solidFill>
                  <a:latin typeface="Arial"/>
                </a:rPr>
                <a:t>Aufgabe 1</a:t>
              </a:r>
              <a:endParaRPr b="0" lang="en-US" sz="1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grpSp>
          <p:nvGrpSpPr>
            <p:cNvPr id="238" name="Group 23"/>
            <p:cNvGrpSpPr/>
            <p:nvPr/>
          </p:nvGrpSpPr>
          <p:grpSpPr>
            <a:xfrm>
              <a:off x="4647960" y="4556520"/>
              <a:ext cx="1828800" cy="418680"/>
              <a:chOff x="4647960" y="4556520"/>
              <a:chExt cx="1828800" cy="418680"/>
            </a:xfrm>
          </p:grpSpPr>
          <p:sp>
            <p:nvSpPr>
              <p:cNvPr id="239" name="Rectangle 24"/>
              <p:cNvSpPr/>
              <p:nvPr/>
            </p:nvSpPr>
            <p:spPr>
              <a:xfrm>
                <a:off x="4647960" y="4556520"/>
                <a:ext cx="18288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716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6699"/>
                    </a:solidFill>
                    <a:latin typeface="Arial"/>
                  </a:rPr>
                  <a:t>    </a:t>
                </a:r>
                <a:r>
                  <a:rPr b="1" lang="de-DE" sz="1400" spc="-1" strike="noStrike">
                    <a:solidFill>
                      <a:srgbClr val="336699"/>
                    </a:solidFill>
                    <a:latin typeface="Arial"/>
                  </a:rPr>
                  <a:t>Meilenstein</a:t>
                </a:r>
                <a:endParaRPr b="0" lang="en-US" sz="1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40" name="Rectangle 25"/>
              <p:cNvSpPr/>
              <p:nvPr/>
            </p:nvSpPr>
            <p:spPr>
              <a:xfrm rot="18900000">
                <a:off x="4773600" y="4615920"/>
                <a:ext cx="279360" cy="30492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  <a:effectLst>
                <a:outerShdw dist="17819" dir="2700000" blurRad="0" rotWithShape="0">
                  <a:srgbClr val="3d7a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umsplatzhalter 4"/>
          <p:cNvSpPr/>
          <p:nvPr/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5326-B879-41C9-81A1-D971A1DE4331}" type="datetime">
              <a:rPr b="0" lang="de-DE" sz="1400" spc="-1" strike="noStrike">
                <a:solidFill>
                  <a:srgbClr val="336699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4" name="Foliennummernplatzhalter 6"/>
          <p:cNvSpPr/>
          <p:nvPr/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30EC-B74E-4C09-BF1E-A278ED728C1F}" type="slidenum">
              <a:rPr b="0" lang="de-DE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247320"/>
            <a:ext cx="7621560" cy="13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ff"/>
                </a:solidFill>
                <a:latin typeface="Times New Roman"/>
              </a:rPr>
              <a:t>Marktzusammenfassung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676160"/>
            <a:ext cx="762156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6699"/>
                </a:solidFill>
                <a:latin typeface="Arial"/>
              </a:rPr>
              <a:t>Vergangenheit, Gegenwart und Zukunft des Markte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6699"/>
                </a:solidFill>
                <a:latin typeface="Arial"/>
              </a:rPr>
              <a:t>Übersicht über veränderte Marktanteile, Marktführer, Konkurrenz, Marktverschiebungen, Kosten, Preise, Wettbewerb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7" name="Freeform 75"/>
          <p:cNvSpPr/>
          <p:nvPr/>
        </p:nvSpPr>
        <p:spPr>
          <a:xfrm>
            <a:off x="3071880" y="3773520"/>
            <a:ext cx="4809960" cy="2157480"/>
          </a:xfrm>
          <a:custGeom>
            <a:avLst/>
            <a:gdLst/>
            <a:ahLst/>
            <a:rect l="l" t="t" r="r" b="b"/>
            <a:pathLst>
              <a:path w="3984" h="2016">
                <a:moveTo>
                  <a:pt x="0" y="0"/>
                </a:moveTo>
                <a:lnTo>
                  <a:pt x="0" y="2016"/>
                </a:lnTo>
                <a:lnTo>
                  <a:pt x="3984" y="2016"/>
                </a:lnTo>
              </a:path>
            </a:pathLst>
          </a:custGeom>
          <a:noFill/>
          <a:ln cap="sq" w="1260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8" name="Freeform 76"/>
          <p:cNvSpPr/>
          <p:nvPr/>
        </p:nvSpPr>
        <p:spPr>
          <a:xfrm>
            <a:off x="3459240" y="5322960"/>
            <a:ext cx="939600" cy="552240"/>
          </a:xfrm>
          <a:custGeom>
            <a:avLst/>
            <a:gdLst/>
            <a:ahLst/>
            <a:rect l="l" t="t" r="r" b="b"/>
            <a:pathLst>
              <a:path w="816" h="480">
                <a:moveTo>
                  <a:pt x="0" y="300"/>
                </a:moveTo>
                <a:lnTo>
                  <a:pt x="0" y="480"/>
                </a:lnTo>
                <a:lnTo>
                  <a:pt x="816" y="480"/>
                </a:lnTo>
                <a:lnTo>
                  <a:pt x="816" y="0"/>
                </a:lnTo>
                <a:lnTo>
                  <a:pt x="738" y="51"/>
                </a:lnTo>
                <a:lnTo>
                  <a:pt x="645" y="102"/>
                </a:lnTo>
                <a:lnTo>
                  <a:pt x="573" y="129"/>
                </a:lnTo>
                <a:lnTo>
                  <a:pt x="456" y="165"/>
                </a:lnTo>
                <a:lnTo>
                  <a:pt x="339" y="201"/>
                </a:lnTo>
                <a:lnTo>
                  <a:pt x="207" y="243"/>
                </a:lnTo>
                <a:lnTo>
                  <a:pt x="81" y="279"/>
                </a:lnTo>
                <a:lnTo>
                  <a:pt x="0" y="300"/>
                </a:lnTo>
                <a:close/>
              </a:path>
            </a:pathLst>
          </a:custGeom>
          <a:solidFill>
            <a:srgbClr val="afb5d2"/>
          </a:solidFill>
          <a:ln cap="sq" w="1260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9" name="Freeform 77"/>
          <p:cNvSpPr/>
          <p:nvPr/>
        </p:nvSpPr>
        <p:spPr>
          <a:xfrm>
            <a:off x="4467240" y="4241880"/>
            <a:ext cx="1000080" cy="1633320"/>
          </a:xfrm>
          <a:custGeom>
            <a:avLst/>
            <a:gdLst/>
            <a:ahLst/>
            <a:rect l="l" t="t" r="r" b="b"/>
            <a:pathLst>
              <a:path w="867" h="1418">
                <a:moveTo>
                  <a:pt x="867" y="0"/>
                </a:moveTo>
                <a:lnTo>
                  <a:pt x="866" y="1418"/>
                </a:lnTo>
                <a:lnTo>
                  <a:pt x="0" y="1416"/>
                </a:lnTo>
                <a:lnTo>
                  <a:pt x="0" y="882"/>
                </a:lnTo>
                <a:lnTo>
                  <a:pt x="84" y="804"/>
                </a:lnTo>
                <a:lnTo>
                  <a:pt x="156" y="735"/>
                </a:lnTo>
                <a:lnTo>
                  <a:pt x="222" y="657"/>
                </a:lnTo>
                <a:lnTo>
                  <a:pt x="297" y="558"/>
                </a:lnTo>
                <a:lnTo>
                  <a:pt x="381" y="453"/>
                </a:lnTo>
                <a:lnTo>
                  <a:pt x="486" y="318"/>
                </a:lnTo>
                <a:lnTo>
                  <a:pt x="543" y="240"/>
                </a:lnTo>
                <a:lnTo>
                  <a:pt x="630" y="129"/>
                </a:lnTo>
                <a:lnTo>
                  <a:pt x="687" y="72"/>
                </a:lnTo>
                <a:lnTo>
                  <a:pt x="753" y="27"/>
                </a:lnTo>
                <a:lnTo>
                  <a:pt x="801" y="16"/>
                </a:lnTo>
                <a:lnTo>
                  <a:pt x="867" y="0"/>
                </a:lnTo>
                <a:close/>
              </a:path>
            </a:pathLst>
          </a:custGeom>
          <a:solidFill>
            <a:srgbClr val="99ffcc"/>
          </a:solidFill>
          <a:ln cap="sq" w="1260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0" name="Freeform 78"/>
          <p:cNvSpPr/>
          <p:nvPr/>
        </p:nvSpPr>
        <p:spPr>
          <a:xfrm>
            <a:off x="3092400" y="5702400"/>
            <a:ext cx="311040" cy="172800"/>
          </a:xfrm>
          <a:custGeom>
            <a:avLst/>
            <a:gdLst/>
            <a:ahLst/>
            <a:rect l="l" t="t" r="r" b="b"/>
            <a:pathLst>
              <a:path w="366" h="174">
                <a:moveTo>
                  <a:pt x="0" y="123"/>
                </a:moveTo>
                <a:lnTo>
                  <a:pt x="0" y="174"/>
                </a:lnTo>
                <a:lnTo>
                  <a:pt x="366" y="174"/>
                </a:lnTo>
                <a:lnTo>
                  <a:pt x="366" y="0"/>
                </a:lnTo>
                <a:lnTo>
                  <a:pt x="320" y="18"/>
                </a:lnTo>
                <a:lnTo>
                  <a:pt x="267" y="39"/>
                </a:lnTo>
                <a:lnTo>
                  <a:pt x="198" y="61"/>
                </a:lnTo>
                <a:lnTo>
                  <a:pt x="132" y="86"/>
                </a:lnTo>
                <a:lnTo>
                  <a:pt x="74" y="106"/>
                </a:lnTo>
                <a:lnTo>
                  <a:pt x="0" y="123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1" name="Freeform 79"/>
          <p:cNvSpPr/>
          <p:nvPr/>
        </p:nvSpPr>
        <p:spPr>
          <a:xfrm flipH="1">
            <a:off x="6568200" y="5322960"/>
            <a:ext cx="939960" cy="552240"/>
          </a:xfrm>
          <a:custGeom>
            <a:avLst/>
            <a:gdLst/>
            <a:ahLst/>
            <a:rect l="l" t="t" r="r" b="b"/>
            <a:pathLst>
              <a:path w="816" h="480">
                <a:moveTo>
                  <a:pt x="0" y="300"/>
                </a:moveTo>
                <a:lnTo>
                  <a:pt x="0" y="480"/>
                </a:lnTo>
                <a:lnTo>
                  <a:pt x="816" y="480"/>
                </a:lnTo>
                <a:lnTo>
                  <a:pt x="816" y="0"/>
                </a:lnTo>
                <a:lnTo>
                  <a:pt x="738" y="51"/>
                </a:lnTo>
                <a:lnTo>
                  <a:pt x="645" y="102"/>
                </a:lnTo>
                <a:lnTo>
                  <a:pt x="573" y="129"/>
                </a:lnTo>
                <a:lnTo>
                  <a:pt x="456" y="165"/>
                </a:lnTo>
                <a:lnTo>
                  <a:pt x="339" y="201"/>
                </a:lnTo>
                <a:lnTo>
                  <a:pt x="207" y="243"/>
                </a:lnTo>
                <a:lnTo>
                  <a:pt x="81" y="279"/>
                </a:lnTo>
                <a:lnTo>
                  <a:pt x="0" y="300"/>
                </a:lnTo>
                <a:close/>
              </a:path>
            </a:pathLst>
          </a:custGeom>
          <a:solidFill>
            <a:srgbClr val="0066ff"/>
          </a:solidFill>
          <a:ln cap="sq" w="1260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2" name="Freeform 80"/>
          <p:cNvSpPr/>
          <p:nvPr/>
        </p:nvSpPr>
        <p:spPr>
          <a:xfrm flipH="1">
            <a:off x="5518080" y="4241880"/>
            <a:ext cx="998640" cy="1633320"/>
          </a:xfrm>
          <a:custGeom>
            <a:avLst/>
            <a:gdLst/>
            <a:ahLst/>
            <a:rect l="l" t="t" r="r" b="b"/>
            <a:pathLst>
              <a:path w="867" h="1418">
                <a:moveTo>
                  <a:pt x="867" y="0"/>
                </a:moveTo>
                <a:lnTo>
                  <a:pt x="866" y="1418"/>
                </a:lnTo>
                <a:lnTo>
                  <a:pt x="0" y="1416"/>
                </a:lnTo>
                <a:lnTo>
                  <a:pt x="0" y="882"/>
                </a:lnTo>
                <a:lnTo>
                  <a:pt x="84" y="804"/>
                </a:lnTo>
                <a:lnTo>
                  <a:pt x="156" y="735"/>
                </a:lnTo>
                <a:lnTo>
                  <a:pt x="222" y="657"/>
                </a:lnTo>
                <a:lnTo>
                  <a:pt x="297" y="558"/>
                </a:lnTo>
                <a:lnTo>
                  <a:pt x="381" y="453"/>
                </a:lnTo>
                <a:lnTo>
                  <a:pt x="486" y="318"/>
                </a:lnTo>
                <a:lnTo>
                  <a:pt x="543" y="240"/>
                </a:lnTo>
                <a:lnTo>
                  <a:pt x="630" y="129"/>
                </a:lnTo>
                <a:lnTo>
                  <a:pt x="687" y="72"/>
                </a:lnTo>
                <a:lnTo>
                  <a:pt x="753" y="27"/>
                </a:lnTo>
                <a:lnTo>
                  <a:pt x="801" y="16"/>
                </a:lnTo>
                <a:lnTo>
                  <a:pt x="867" y="0"/>
                </a:lnTo>
                <a:close/>
              </a:path>
            </a:pathLst>
          </a:custGeom>
          <a:solidFill>
            <a:srgbClr val="66ccff"/>
          </a:solidFill>
          <a:ln cap="sq" w="1260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3" name="Text Box 81"/>
          <p:cNvSpPr/>
          <p:nvPr/>
        </p:nvSpPr>
        <p:spPr>
          <a:xfrm>
            <a:off x="3137040" y="5020200"/>
            <a:ext cx="138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Frühe Kunden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4" name="Text Box 82"/>
          <p:cNvSpPr/>
          <p:nvPr/>
        </p:nvSpPr>
        <p:spPr>
          <a:xfrm>
            <a:off x="4852440" y="3688200"/>
            <a:ext cx="131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Massenmarkt</a:t>
            </a:r>
            <a:br>
              <a:rPr sz="1400"/>
            </a:b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5" name="Text Box 83"/>
          <p:cNvSpPr/>
          <p:nvPr/>
        </p:nvSpPr>
        <p:spPr>
          <a:xfrm>
            <a:off x="6471720" y="4983840"/>
            <a:ext cx="183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Produktlebensende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6" name="Text Box 84"/>
          <p:cNvSpPr/>
          <p:nvPr/>
        </p:nvSpPr>
        <p:spPr>
          <a:xfrm>
            <a:off x="5253840" y="59760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336699"/>
                </a:solidFill>
                <a:latin typeface="Arial"/>
              </a:rPr>
              <a:t>Zeit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7" name="Text Box 85"/>
          <p:cNvSpPr/>
          <p:nvPr/>
        </p:nvSpPr>
        <p:spPr>
          <a:xfrm>
            <a:off x="2192400" y="4521600"/>
            <a:ext cx="85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336699"/>
                </a:solidFill>
                <a:latin typeface="Arial"/>
              </a:rPr>
              <a:t>Kunden-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336699"/>
                </a:solidFill>
                <a:latin typeface="Arial"/>
              </a:rPr>
              <a:t>anzahl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umsplatzhalter 3"/>
          <p:cNvSpPr/>
          <p:nvPr/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B7F4-9861-47FC-8B1C-1A1D0FB8418B}" type="datetime">
              <a:rPr b="0" lang="de-DE" sz="1400" spc="-1" strike="noStrike">
                <a:solidFill>
                  <a:srgbClr val="336699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9" name="Foliennummernplatzhalter 5"/>
          <p:cNvSpPr/>
          <p:nvPr/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4D3F-BB5B-44CD-A17F-E7039F825C57}" type="slidenum">
              <a:rPr b="0" lang="de-DE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247320"/>
            <a:ext cx="7621560" cy="13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ff"/>
                </a:solidFill>
                <a:latin typeface="Times New Roman"/>
              </a:rPr>
              <a:t>Produktdefinition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7621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6699"/>
                </a:solidFill>
                <a:latin typeface="Arial"/>
              </a:rPr>
              <a:t>Beschreiben Sie das zu vermarktende Produkt oder</a:t>
            </a:r>
            <a:br>
              <a:rPr sz="3200"/>
            </a:br>
            <a:r>
              <a:rPr b="1" lang="de-DE" sz="3200" spc="-1" strike="noStrike">
                <a:solidFill>
                  <a:srgbClr val="336699"/>
                </a:solidFill>
                <a:latin typeface="Arial"/>
              </a:rPr>
              <a:t>die Dienstleistung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umsplatzhalter 4"/>
          <p:cNvSpPr/>
          <p:nvPr/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55BD-9D58-4A2C-AE71-6CC1CDB32B41}" type="datetime">
              <a:rPr b="0" lang="de-DE" sz="1400" spc="-1" strike="noStrike">
                <a:solidFill>
                  <a:srgbClr val="336699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3" name="Foliennummernplatzhalter 6"/>
          <p:cNvSpPr/>
          <p:nvPr/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1466-C516-40FF-94F2-E21D2B774F93}" type="slidenum">
              <a:rPr b="0" lang="de-DE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247320"/>
            <a:ext cx="7621560" cy="13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ff"/>
                </a:solidFill>
                <a:latin typeface="Times New Roman"/>
              </a:rPr>
              <a:t>Konkurrenz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t">
            <a:normAutofit/>
          </a:bodyPr>
          <a:p>
            <a:pPr marL="287280" indent="-2872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6699"/>
                </a:solidFill>
                <a:latin typeface="Arial"/>
              </a:rPr>
              <a:t>Die Wettbewerbs-situation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27120" indent="-225360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6699"/>
                </a:solidFill>
                <a:latin typeface="Arial"/>
              </a:rPr>
              <a:t>Geben Sie eine Übersicht der Stärken und Schwächen Ihrer Konkurrenz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627120" indent="-225360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6699"/>
                </a:solidFill>
                <a:latin typeface="Arial"/>
              </a:rPr>
              <a:t>Vergleichen Sie jedes Produkt der Konkurrenz mit dem neuen Produkt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26" name="Group 33"/>
          <p:cNvGrpSpPr/>
          <p:nvPr/>
        </p:nvGrpSpPr>
        <p:grpSpPr>
          <a:xfrm>
            <a:off x="5276160" y="1981080"/>
            <a:ext cx="3639240" cy="3565800"/>
            <a:chOff x="5276160" y="1981080"/>
            <a:chExt cx="3639240" cy="3565800"/>
          </a:xfrm>
        </p:grpSpPr>
        <p:sp>
          <p:nvSpPr>
            <p:cNvPr id="127" name="Oval 14"/>
            <p:cNvSpPr/>
            <p:nvPr/>
          </p:nvSpPr>
          <p:spPr>
            <a:xfrm>
              <a:off x="6540480" y="2955960"/>
              <a:ext cx="644400" cy="646200"/>
            </a:xfrm>
            <a:prstGeom prst="ellips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858aa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28" name="Oval 15"/>
            <p:cNvSpPr/>
            <p:nvPr/>
          </p:nvSpPr>
          <p:spPr>
            <a:xfrm>
              <a:off x="7669080" y="2955960"/>
              <a:ext cx="482760" cy="484200"/>
            </a:xfrm>
            <a:prstGeom prst="ellips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4487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29" name="Oval 16"/>
            <p:cNvSpPr/>
            <p:nvPr/>
          </p:nvSpPr>
          <p:spPr>
            <a:xfrm>
              <a:off x="6378480" y="4352760"/>
              <a:ext cx="408240" cy="406440"/>
            </a:xfrm>
            <a:prstGeom prst="ellipse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4776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30" name="Oval 17"/>
            <p:cNvSpPr/>
            <p:nvPr/>
          </p:nvSpPr>
          <p:spPr>
            <a:xfrm>
              <a:off x="6969240" y="4084560"/>
              <a:ext cx="542880" cy="54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f8f8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31" name="Freeform 18"/>
            <p:cNvSpPr/>
            <p:nvPr/>
          </p:nvSpPr>
          <p:spPr>
            <a:xfrm>
              <a:off x="5891040" y="1981080"/>
              <a:ext cx="3024360" cy="3022560"/>
            </a:xfrm>
            <a:custGeom>
              <a:avLst/>
              <a:gdLst/>
              <a:ahLst/>
              <a:rect l="l" t="t" r="r" b="b"/>
              <a:pathLst>
                <a:path w="2976" h="2976">
                  <a:moveTo>
                    <a:pt x="0" y="0"/>
                  </a:moveTo>
                  <a:lnTo>
                    <a:pt x="0" y="2976"/>
                  </a:lnTo>
                  <a:lnTo>
                    <a:pt x="2976" y="2976"/>
                  </a:lnTo>
                </a:path>
              </a:pathLst>
            </a:custGeom>
            <a:noFill/>
            <a:ln w="1908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32" name="AutoShape 19"/>
            <p:cNvSpPr/>
            <p:nvPr/>
          </p:nvSpPr>
          <p:spPr>
            <a:xfrm>
              <a:off x="6613560" y="5048280"/>
              <a:ext cx="1520640" cy="498600"/>
            </a:xfrm>
            <a:prstGeom prst="rightArrow">
              <a:avLst>
                <a:gd name="adj1" fmla="val 50000"/>
                <a:gd name="adj2" fmla="val 76245"/>
              </a:avLst>
            </a:prstGeom>
            <a:solidFill>
              <a:srgbClr val="ffff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6699"/>
                  </a:solidFill>
                  <a:latin typeface="Arial"/>
                </a:rPr>
                <a:t>Leistung</a:t>
              </a:r>
              <a:endParaRPr b="0" lang="en-US" sz="16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33" name="AutoShape 20"/>
            <p:cNvSpPr/>
            <p:nvPr/>
          </p:nvSpPr>
          <p:spPr>
            <a:xfrm flipH="1" flipV="1" rot="5400000">
              <a:off x="4884480" y="3257640"/>
              <a:ext cx="1251000" cy="468360"/>
            </a:xfrm>
            <a:prstGeom prst="rightArrow">
              <a:avLst>
                <a:gd name="adj1" fmla="val 50000"/>
                <a:gd name="adj2" fmla="val 66776"/>
              </a:avLst>
            </a:prstGeom>
            <a:solidFill>
              <a:srgbClr val="ffff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6699"/>
                  </a:solidFill>
                  <a:latin typeface="Arial"/>
                </a:rPr>
                <a:t>Preis</a:t>
              </a:r>
              <a:endParaRPr b="0" lang="en-US" sz="16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umsplatzhalter 3"/>
          <p:cNvSpPr/>
          <p:nvPr/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E073-145B-427A-B18D-AA9D530D0D9C}" type="datetime">
              <a:rPr b="0" lang="de-DE" sz="1400" spc="-1" strike="noStrike">
                <a:solidFill>
                  <a:srgbClr val="336699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5" name="Foliennummernplatzhalter 5"/>
          <p:cNvSpPr/>
          <p:nvPr/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10F8-5BAC-4D83-82C5-B3FA2EDC154C}" type="slidenum">
              <a:rPr b="0" lang="de-DE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247320"/>
            <a:ext cx="7621560" cy="13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ff"/>
                </a:solidFill>
                <a:latin typeface="Times New Roman"/>
              </a:rPr>
              <a:t>Marktposition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7621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6699"/>
                </a:solidFill>
                <a:latin typeface="Arial"/>
              </a:rPr>
              <a:t>Marktposition des Produkts/der Dienstleistung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6699"/>
                </a:solidFill>
                <a:latin typeface="Arial"/>
              </a:rPr>
              <a:t>Genaue Definition der langfristigen Marktposition des Produkts und konkurrierender Produkte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6699"/>
                </a:solidFill>
                <a:latin typeface="Arial"/>
              </a:rPr>
              <a:t>Kundenversprechen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6699"/>
                </a:solidFill>
                <a:latin typeface="Arial"/>
              </a:rPr>
              <a:t>Zusammenfassende Aussage über den Nutzen des Produkts oder der Dienstleistung für den Konsumenten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umsplatzhalter 3"/>
          <p:cNvSpPr/>
          <p:nvPr/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E832-C825-409A-B1EE-5565E5F23B23}" type="datetime">
              <a:rPr b="0" lang="de-DE" sz="1400" spc="-1" strike="noStrike">
                <a:solidFill>
                  <a:srgbClr val="336699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9" name="Foliennummernplatzhalter 5"/>
          <p:cNvSpPr/>
          <p:nvPr/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5EC7-EFAC-47F2-A60B-02B436DCEF90}" type="slidenum">
              <a:rPr b="0" lang="de-DE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247320"/>
            <a:ext cx="7621560" cy="13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ff"/>
                </a:solidFill>
                <a:latin typeface="Times New Roman"/>
              </a:rPr>
              <a:t>Kommunikationsstrategien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7621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6699"/>
                </a:solidFill>
                <a:latin typeface="Arial"/>
              </a:rPr>
              <a:t>Zielgruppenorientierte Werbung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6699"/>
                </a:solidFill>
                <a:latin typeface="Arial"/>
              </a:rPr>
              <a:t>Ermitteln Sie die Demografie der Zielgruppe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umsplatzhalter 3"/>
          <p:cNvSpPr/>
          <p:nvPr/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3619-865C-4B7D-B361-A50C62AF3D4E}" type="datetime">
              <a:rPr b="0" lang="de-DE" sz="1400" spc="-1" strike="noStrike">
                <a:solidFill>
                  <a:srgbClr val="336699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3" name="Foliennummernplatzhalter 5"/>
          <p:cNvSpPr/>
          <p:nvPr/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E25F-8FE6-4EF3-A72B-58FD85074641}" type="slidenum">
              <a:rPr b="0" lang="de-DE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247320"/>
            <a:ext cx="7621560" cy="13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ff"/>
                </a:solidFill>
                <a:latin typeface="Times New Roman"/>
              </a:rPr>
              <a:t>Verpackung &amp; Auftragserfüllungen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7621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6699"/>
                </a:solidFill>
                <a:latin typeface="Arial"/>
              </a:rPr>
              <a:t>Produktverpackung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Diskutieren Sie den Form-Faktor, Preisfestsetzung, Aussehen, Strategie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Diskutieren Sie die Lieferung von Artikeln, die nicht direkt mit dem Produkt verschickt werden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6699"/>
                </a:solidFill>
                <a:latin typeface="Arial"/>
              </a:rPr>
              <a:t>Materialkosten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Fassen Sie die Materialkosten und wichtigen Produktbestandteile zusammen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umsplatzhalter 3"/>
          <p:cNvSpPr/>
          <p:nvPr/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D14C-F67E-4103-9020-066F7ECF13B2}" type="datetime">
              <a:rPr b="0" lang="de-DE" sz="1400" spc="-1" strike="noStrike">
                <a:solidFill>
                  <a:srgbClr val="336699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7" name="Foliennummernplatzhalter 5"/>
          <p:cNvSpPr/>
          <p:nvPr/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DE59-8D42-4A8C-9A28-05C1E11831DD}" type="slidenum">
              <a:rPr b="0" lang="de-DE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247320"/>
            <a:ext cx="7621560" cy="13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ff"/>
                </a:solidFill>
                <a:latin typeface="Times New Roman"/>
              </a:rPr>
              <a:t>Markteinführungsstrategien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7621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6699"/>
                </a:solidFill>
                <a:latin typeface="Arial"/>
              </a:rPr>
              <a:t>Markteinführungsplan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6699"/>
                </a:solidFill>
                <a:latin typeface="Arial"/>
              </a:rPr>
              <a:t>Falls das Produkt angekündigt wird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6699"/>
                </a:solidFill>
                <a:latin typeface="Arial"/>
              </a:rPr>
              <a:t>Werbebudget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6699"/>
                </a:solidFill>
                <a:latin typeface="Arial"/>
              </a:rPr>
              <a:t>Liefern Sie Hintergrundmaterial mit detaillierten Budgetinformationen zur Einsicht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50" name="Group 4"/>
          <p:cNvGrpSpPr/>
          <p:nvPr/>
        </p:nvGrpSpPr>
        <p:grpSpPr>
          <a:xfrm>
            <a:off x="1677240" y="4724280"/>
            <a:ext cx="6476040" cy="1577160"/>
            <a:chOff x="1677240" y="4724280"/>
            <a:chExt cx="6476040" cy="1577160"/>
          </a:xfrm>
        </p:grpSpPr>
        <p:grpSp>
          <p:nvGrpSpPr>
            <p:cNvPr id="151" name="Group 5"/>
            <p:cNvGrpSpPr/>
            <p:nvPr/>
          </p:nvGrpSpPr>
          <p:grpSpPr>
            <a:xfrm>
              <a:off x="1677240" y="5638680"/>
              <a:ext cx="6476040" cy="662760"/>
              <a:chOff x="1677240" y="5638680"/>
              <a:chExt cx="6476040" cy="662760"/>
            </a:xfrm>
          </p:grpSpPr>
          <p:sp>
            <p:nvSpPr>
              <p:cNvPr id="152" name="AutoShape 6"/>
              <p:cNvSpPr/>
              <p:nvPr/>
            </p:nvSpPr>
            <p:spPr>
              <a:xfrm>
                <a:off x="1752480" y="5638680"/>
                <a:ext cx="6400800" cy="486000"/>
              </a:xfrm>
              <a:prstGeom prst="rightArrow">
                <a:avLst>
                  <a:gd name="adj1" fmla="val 36602"/>
                  <a:gd name="adj2" fmla="val 54145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99ffcc"/>
                  </a:gs>
                </a:gsLst>
                <a:lin ang="0"/>
              </a:gradFill>
              <a:ln w="0">
                <a:noFill/>
              </a:ln>
              <a:effectLst>
                <a:outerShdw dist="17819" dir="2700000" blurRad="0" rotWithShape="0">
                  <a:srgbClr val="3d7a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53" name="Text Box 7"/>
              <p:cNvSpPr/>
              <p:nvPr/>
            </p:nvSpPr>
            <p:spPr>
              <a:xfrm>
                <a:off x="1677240" y="5994360"/>
                <a:ext cx="48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6699"/>
                    </a:solidFill>
                    <a:latin typeface="Arial"/>
                  </a:rPr>
                  <a:t>Jan</a:t>
                </a:r>
                <a:endParaRPr b="0" lang="en-US" sz="1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54" name="Text Box 8"/>
              <p:cNvSpPr/>
              <p:nvPr/>
            </p:nvSpPr>
            <p:spPr>
              <a:xfrm>
                <a:off x="2204640" y="5994360"/>
                <a:ext cx="49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6699"/>
                    </a:solidFill>
                    <a:latin typeface="Arial"/>
                  </a:rPr>
                  <a:t>Feb</a:t>
                </a:r>
                <a:endParaRPr b="0" lang="en-US" sz="1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55" name="Text Box 9"/>
              <p:cNvSpPr/>
              <p:nvPr/>
            </p:nvSpPr>
            <p:spPr>
              <a:xfrm>
                <a:off x="2764800" y="5994360"/>
                <a:ext cx="49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6699"/>
                    </a:solidFill>
                    <a:latin typeface="Arial"/>
                  </a:rPr>
                  <a:t>Mär</a:t>
                </a:r>
                <a:endParaRPr b="0" lang="en-US" sz="1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56" name="Text Box 10"/>
              <p:cNvSpPr/>
              <p:nvPr/>
            </p:nvSpPr>
            <p:spPr>
              <a:xfrm>
                <a:off x="3360960" y="5994360"/>
                <a:ext cx="48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6699"/>
                    </a:solidFill>
                    <a:latin typeface="Arial"/>
                  </a:rPr>
                  <a:t>Apr</a:t>
                </a:r>
                <a:endParaRPr b="0" lang="en-US" sz="1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57" name="Text Box 11"/>
              <p:cNvSpPr/>
              <p:nvPr/>
            </p:nvSpPr>
            <p:spPr>
              <a:xfrm>
                <a:off x="3931200" y="599436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6699"/>
                    </a:solidFill>
                    <a:latin typeface="Arial"/>
                  </a:rPr>
                  <a:t>Mai</a:t>
                </a:r>
                <a:endParaRPr b="0" lang="en-US" sz="1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58" name="Text Box 12"/>
              <p:cNvSpPr/>
              <p:nvPr/>
            </p:nvSpPr>
            <p:spPr>
              <a:xfrm>
                <a:off x="4561920" y="5994360"/>
                <a:ext cx="49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6699"/>
                    </a:solidFill>
                    <a:latin typeface="Arial"/>
                  </a:rPr>
                  <a:t>Jun</a:t>
                </a:r>
                <a:endParaRPr b="0" lang="en-US" sz="1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59" name="Text Box 13"/>
              <p:cNvSpPr/>
              <p:nvPr/>
            </p:nvSpPr>
            <p:spPr>
              <a:xfrm>
                <a:off x="5099040" y="5994360"/>
                <a:ext cx="83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6699"/>
                    </a:solidFill>
                    <a:latin typeface="Arial"/>
                  </a:rPr>
                  <a:t>Jul Aug</a:t>
                </a:r>
                <a:endParaRPr b="0" lang="en-US" sz="1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60" name="Text Box 14"/>
              <p:cNvSpPr/>
              <p:nvPr/>
            </p:nvSpPr>
            <p:spPr>
              <a:xfrm>
                <a:off x="5694120" y="5994360"/>
                <a:ext cx="657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6699"/>
                    </a:solidFill>
                    <a:latin typeface="Arial"/>
                  </a:rPr>
                  <a:t>   </a:t>
                </a:r>
                <a:r>
                  <a:rPr b="1" lang="en-US" sz="1400" spc="-1" strike="noStrike">
                    <a:solidFill>
                      <a:srgbClr val="336699"/>
                    </a:solidFill>
                    <a:latin typeface="Arial"/>
                  </a:rPr>
                  <a:t>Sep</a:t>
                </a:r>
                <a:endParaRPr b="0" lang="en-US" sz="1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61" name="Text Box 15"/>
              <p:cNvSpPr/>
              <p:nvPr/>
            </p:nvSpPr>
            <p:spPr>
              <a:xfrm>
                <a:off x="6254640" y="5994360"/>
                <a:ext cx="528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336699"/>
                    </a:solidFill>
                    <a:latin typeface="Arial"/>
                  </a:rPr>
                  <a:t> </a:t>
                </a:r>
                <a:r>
                  <a:rPr b="1" lang="de-DE" sz="1400" spc="-1" strike="noStrike">
                    <a:solidFill>
                      <a:srgbClr val="336699"/>
                    </a:solidFill>
                    <a:latin typeface="Arial"/>
                  </a:rPr>
                  <a:t>Okt</a:t>
                </a:r>
                <a:endParaRPr b="0" lang="en-US" sz="1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62" name="Text Box 16"/>
              <p:cNvSpPr/>
              <p:nvPr/>
            </p:nvSpPr>
            <p:spPr>
              <a:xfrm>
                <a:off x="6805440" y="5994360"/>
                <a:ext cx="515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6699"/>
                    </a:solidFill>
                    <a:latin typeface="Arial"/>
                  </a:rPr>
                  <a:t>Nov</a:t>
                </a:r>
                <a:endParaRPr b="0" lang="en-US" sz="1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63" name="Text Box 17"/>
              <p:cNvSpPr/>
              <p:nvPr/>
            </p:nvSpPr>
            <p:spPr>
              <a:xfrm>
                <a:off x="7411680" y="5994360"/>
                <a:ext cx="49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6699"/>
                    </a:solidFill>
                    <a:latin typeface="Arial"/>
                  </a:rPr>
                  <a:t>Dez</a:t>
                </a:r>
                <a:endParaRPr b="0" lang="en-US" sz="1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  <p:sp>
          <p:nvSpPr>
            <p:cNvPr id="164" name="AutoShape 18"/>
            <p:cNvSpPr/>
            <p:nvPr/>
          </p:nvSpPr>
          <p:spPr>
            <a:xfrm>
              <a:off x="1828800" y="4724280"/>
              <a:ext cx="2438280" cy="152640"/>
            </a:xfrm>
            <a:prstGeom prst="flowChartProcess">
              <a:avLst/>
            </a:prstGeom>
            <a:solidFill>
              <a:srgbClr val="66ccff"/>
            </a:solidFill>
            <a:ln w="0">
              <a:noFill/>
            </a:ln>
            <a:effectLst>
              <a:outerShdw dist="17819" dir="2700000" blurRad="0" rotWithShape="0">
                <a:srgbClr val="3d7a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6699"/>
                  </a:solidFill>
                  <a:latin typeface="Arial"/>
                </a:rPr>
                <a:t>Phase 1</a:t>
              </a:r>
              <a:endParaRPr b="0" lang="en-US" sz="1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65" name="AutoShape 19"/>
            <p:cNvSpPr/>
            <p:nvPr/>
          </p:nvSpPr>
          <p:spPr>
            <a:xfrm>
              <a:off x="4267080" y="5029200"/>
              <a:ext cx="1905120" cy="152280"/>
            </a:xfrm>
            <a:prstGeom prst="flowChartProcess">
              <a:avLst/>
            </a:prstGeom>
            <a:solidFill>
              <a:srgbClr val="66ccff"/>
            </a:solidFill>
            <a:ln w="0">
              <a:noFill/>
            </a:ln>
            <a:effectLst>
              <a:outerShdw dist="17819" dir="2700000" blurRad="0" rotWithShape="0">
                <a:srgbClr val="3d7a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6699"/>
                  </a:solidFill>
                  <a:latin typeface="Arial"/>
                </a:rPr>
                <a:t>Phase 2</a:t>
              </a:r>
              <a:endParaRPr b="0" lang="en-US" sz="1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66" name="AutoShape 20"/>
            <p:cNvSpPr/>
            <p:nvPr/>
          </p:nvSpPr>
          <p:spPr>
            <a:xfrm>
              <a:off x="6172200" y="5334120"/>
              <a:ext cx="1676520" cy="152280"/>
            </a:xfrm>
            <a:prstGeom prst="flowChartProcess">
              <a:avLst/>
            </a:prstGeom>
            <a:solidFill>
              <a:srgbClr val="66ccff"/>
            </a:solidFill>
            <a:ln w="0">
              <a:noFill/>
            </a:ln>
            <a:effectLst>
              <a:outerShdw dist="17819" dir="2700000" blurRad="0" rotWithShape="0">
                <a:srgbClr val="3d7a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6699"/>
                  </a:solidFill>
                  <a:latin typeface="Arial"/>
                </a:rPr>
                <a:t>Phase 3</a:t>
              </a:r>
              <a:endParaRPr b="0" lang="en-US" sz="1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167" name="Group 21"/>
          <p:cNvGrpSpPr/>
          <p:nvPr/>
        </p:nvGrpSpPr>
        <p:grpSpPr>
          <a:xfrm>
            <a:off x="1677240" y="4724280"/>
            <a:ext cx="6476040" cy="1577160"/>
            <a:chOff x="1677240" y="4724280"/>
            <a:chExt cx="6476040" cy="1577160"/>
          </a:xfrm>
        </p:grpSpPr>
        <p:grpSp>
          <p:nvGrpSpPr>
            <p:cNvPr id="168" name="Group 22"/>
            <p:cNvGrpSpPr/>
            <p:nvPr/>
          </p:nvGrpSpPr>
          <p:grpSpPr>
            <a:xfrm>
              <a:off x="1677240" y="5638680"/>
              <a:ext cx="6476040" cy="662760"/>
              <a:chOff x="1677240" y="5638680"/>
              <a:chExt cx="6476040" cy="662760"/>
            </a:xfrm>
          </p:grpSpPr>
          <p:sp>
            <p:nvSpPr>
              <p:cNvPr id="169" name="AutoShape 23"/>
              <p:cNvSpPr/>
              <p:nvPr/>
            </p:nvSpPr>
            <p:spPr>
              <a:xfrm>
                <a:off x="1752480" y="5638680"/>
                <a:ext cx="6400800" cy="486000"/>
              </a:xfrm>
              <a:prstGeom prst="rightArrow">
                <a:avLst>
                  <a:gd name="adj1" fmla="val 36602"/>
                  <a:gd name="adj2" fmla="val 54145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99ffcc"/>
                  </a:gs>
                </a:gsLst>
                <a:lin ang="0"/>
              </a:gradFill>
              <a:ln w="0">
                <a:noFill/>
              </a:ln>
              <a:effectLst>
                <a:outerShdw dist="17819" dir="2700000" blurRad="0" rotWithShape="0">
                  <a:srgbClr val="3d7a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70" name="Text Box 24"/>
              <p:cNvSpPr/>
              <p:nvPr/>
            </p:nvSpPr>
            <p:spPr>
              <a:xfrm>
                <a:off x="1677240" y="5994360"/>
                <a:ext cx="48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6699"/>
                    </a:solidFill>
                    <a:latin typeface="Arial"/>
                  </a:rPr>
                  <a:t>Jan</a:t>
                </a:r>
                <a:endParaRPr b="0" lang="en-US" sz="1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71" name="Text Box 25"/>
              <p:cNvSpPr/>
              <p:nvPr/>
            </p:nvSpPr>
            <p:spPr>
              <a:xfrm>
                <a:off x="2204640" y="5994360"/>
                <a:ext cx="49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6699"/>
                    </a:solidFill>
                    <a:latin typeface="Arial"/>
                  </a:rPr>
                  <a:t>Feb</a:t>
                </a:r>
                <a:endParaRPr b="0" lang="en-US" sz="1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72" name="Text Box 26"/>
              <p:cNvSpPr/>
              <p:nvPr/>
            </p:nvSpPr>
            <p:spPr>
              <a:xfrm>
                <a:off x="2764800" y="5994360"/>
                <a:ext cx="49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336699"/>
                    </a:solidFill>
                    <a:latin typeface="Arial"/>
                  </a:rPr>
                  <a:t>Mär</a:t>
                </a:r>
                <a:endParaRPr b="0" lang="en-US" sz="1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73" name="Text Box 27"/>
              <p:cNvSpPr/>
              <p:nvPr/>
            </p:nvSpPr>
            <p:spPr>
              <a:xfrm>
                <a:off x="3360960" y="5994360"/>
                <a:ext cx="48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6699"/>
                    </a:solidFill>
                    <a:latin typeface="Arial"/>
                  </a:rPr>
                  <a:t>Apr</a:t>
                </a:r>
                <a:endParaRPr b="0" lang="en-US" sz="1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74" name="Text Box 28"/>
              <p:cNvSpPr/>
              <p:nvPr/>
            </p:nvSpPr>
            <p:spPr>
              <a:xfrm>
                <a:off x="3931200" y="599436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6699"/>
                    </a:solidFill>
                    <a:latin typeface="Arial"/>
                  </a:rPr>
                  <a:t>Mai</a:t>
                </a:r>
                <a:endParaRPr b="0" lang="en-US" sz="1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75" name="Text Box 29"/>
              <p:cNvSpPr/>
              <p:nvPr/>
            </p:nvSpPr>
            <p:spPr>
              <a:xfrm>
                <a:off x="4561920" y="5994360"/>
                <a:ext cx="49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6699"/>
                    </a:solidFill>
                    <a:latin typeface="Arial"/>
                  </a:rPr>
                  <a:t>Jun</a:t>
                </a:r>
                <a:endParaRPr b="0" lang="en-US" sz="1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76" name="Text Box 30"/>
              <p:cNvSpPr/>
              <p:nvPr/>
            </p:nvSpPr>
            <p:spPr>
              <a:xfrm>
                <a:off x="5099040" y="5994360"/>
                <a:ext cx="83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6699"/>
                    </a:solidFill>
                    <a:latin typeface="Arial"/>
                  </a:rPr>
                  <a:t>Jul Aug</a:t>
                </a:r>
                <a:endParaRPr b="0" lang="en-US" sz="1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77" name="Text Box 31"/>
              <p:cNvSpPr/>
              <p:nvPr/>
            </p:nvSpPr>
            <p:spPr>
              <a:xfrm>
                <a:off x="5695200" y="5994360"/>
                <a:ext cx="281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6699"/>
                    </a:solidFill>
                    <a:latin typeface="Arial"/>
                  </a:rPr>
                  <a:t>  </a:t>
                </a:r>
                <a:endParaRPr b="0" lang="en-US" sz="1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78" name="Text Box 32"/>
              <p:cNvSpPr/>
              <p:nvPr/>
            </p:nvSpPr>
            <p:spPr>
              <a:xfrm>
                <a:off x="6255360" y="5994360"/>
                <a:ext cx="281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6699"/>
                    </a:solidFill>
                    <a:latin typeface="Arial"/>
                  </a:rPr>
                  <a:t>  </a:t>
                </a:r>
                <a:endParaRPr b="0" lang="en-US" sz="1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79" name="Text Box 33"/>
              <p:cNvSpPr/>
              <p:nvPr/>
            </p:nvSpPr>
            <p:spPr>
              <a:xfrm>
                <a:off x="6805440" y="5994360"/>
                <a:ext cx="515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6699"/>
                    </a:solidFill>
                    <a:latin typeface="Arial"/>
                  </a:rPr>
                  <a:t>Nov</a:t>
                </a:r>
                <a:endParaRPr b="0" lang="en-US" sz="1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80" name="Text Box 34"/>
              <p:cNvSpPr/>
              <p:nvPr/>
            </p:nvSpPr>
            <p:spPr>
              <a:xfrm>
                <a:off x="7411680" y="5994360"/>
                <a:ext cx="49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336699"/>
                    </a:solidFill>
                    <a:latin typeface="Arial"/>
                  </a:rPr>
                  <a:t>Dez</a:t>
                </a:r>
                <a:endParaRPr b="0" lang="en-US" sz="1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  <p:sp>
          <p:nvSpPr>
            <p:cNvPr id="181" name="AutoShape 35"/>
            <p:cNvSpPr/>
            <p:nvPr/>
          </p:nvSpPr>
          <p:spPr>
            <a:xfrm>
              <a:off x="1828800" y="4724280"/>
              <a:ext cx="2438280" cy="152640"/>
            </a:xfrm>
            <a:prstGeom prst="flowChartProcess">
              <a:avLst/>
            </a:prstGeom>
            <a:solidFill>
              <a:srgbClr val="66ccff"/>
            </a:solidFill>
            <a:ln w="0">
              <a:noFill/>
            </a:ln>
            <a:effectLst>
              <a:outerShdw dist="17819" dir="2700000" blurRad="0" rotWithShape="0">
                <a:srgbClr val="3d7a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6699"/>
                  </a:solidFill>
                  <a:latin typeface="Arial"/>
                </a:rPr>
                <a:t>Phase 1</a:t>
              </a:r>
              <a:endParaRPr b="0" lang="en-US" sz="1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2" name="AutoShape 36"/>
            <p:cNvSpPr/>
            <p:nvPr/>
          </p:nvSpPr>
          <p:spPr>
            <a:xfrm>
              <a:off x="4267080" y="5029200"/>
              <a:ext cx="1905120" cy="152280"/>
            </a:xfrm>
            <a:prstGeom prst="flowChartProcess">
              <a:avLst/>
            </a:prstGeom>
            <a:solidFill>
              <a:srgbClr val="66ccff"/>
            </a:solidFill>
            <a:ln w="0">
              <a:noFill/>
            </a:ln>
            <a:effectLst>
              <a:outerShdw dist="17819" dir="2700000" blurRad="0" rotWithShape="0">
                <a:srgbClr val="3d7a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6699"/>
                  </a:solidFill>
                  <a:latin typeface="Arial"/>
                </a:rPr>
                <a:t>Phase 2</a:t>
              </a:r>
              <a:endParaRPr b="0" lang="en-US" sz="1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3" name="AutoShape 37"/>
            <p:cNvSpPr/>
            <p:nvPr/>
          </p:nvSpPr>
          <p:spPr>
            <a:xfrm>
              <a:off x="6172200" y="5334120"/>
              <a:ext cx="1676520" cy="152280"/>
            </a:xfrm>
            <a:prstGeom prst="flowChartProcess">
              <a:avLst/>
            </a:prstGeom>
            <a:solidFill>
              <a:srgbClr val="66ccff"/>
            </a:solidFill>
            <a:ln w="0">
              <a:noFill/>
            </a:ln>
            <a:effectLst>
              <a:outerShdw dist="17819" dir="2700000" blurRad="0" rotWithShape="0">
                <a:srgbClr val="3d7a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6699"/>
                  </a:solidFill>
                  <a:latin typeface="Arial"/>
                </a:rPr>
                <a:t>Phase 3</a:t>
              </a:r>
              <a:endParaRPr b="0" lang="en-US" sz="1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umsplatzhalter 3"/>
          <p:cNvSpPr/>
          <p:nvPr/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5653-6356-4141-9122-2C15AF8F4C64}" type="datetime">
              <a:rPr b="0" lang="de-DE" sz="1400" spc="-1" strike="noStrike">
                <a:solidFill>
                  <a:srgbClr val="336699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5" name="Foliennummernplatzhalter 5"/>
          <p:cNvSpPr/>
          <p:nvPr/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ABA6-98F6-4C25-8D5B-3A3A27BECBCD}" type="slidenum">
              <a:rPr b="0" lang="de-DE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69800" y="247320"/>
            <a:ext cx="7621560" cy="13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ff"/>
                </a:solidFill>
                <a:latin typeface="Times New Roman"/>
              </a:rPr>
              <a:t>Public Relation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7621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6699"/>
                </a:solidFill>
                <a:latin typeface="Arial"/>
              </a:rPr>
              <a:t>Strategie &amp; Ausführung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6699"/>
                </a:solidFill>
                <a:latin typeface="Arial"/>
              </a:rPr>
              <a:t>Public Relations-Strategien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6699"/>
                </a:solidFill>
                <a:latin typeface="Arial"/>
              </a:rPr>
              <a:t>Highlights des Public Relations-Plans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6699"/>
                </a:solidFill>
                <a:latin typeface="Arial"/>
              </a:rPr>
              <a:t>Halten Sie einen Reserveplan für Public Relation bereit, einschließlich Redaktionstermine, Ansprachen, Konferenztermine etc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ni Wopper</cp:lastModifiedBy>
  <dcterms:modified xsi:type="dcterms:W3CDTF">2011-04-19T12:24:37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1</vt:r8>
  </property>
  <property fmtid="{D5CDD505-2E9C-101B-9397-08002B2CF9AE}" pid="3" name="Version">
    <vt:r8>4</vt:r8>
  </property>
</Properties>
</file>