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BC7-C341-4A2D-AD9E-3BECBBC2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1B0-8D84-42C0-89F4-C1136DA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7CD-0D0B-406E-890E-3BF042DF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0D2-425E-4A34-901D-8E76AEC2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D22-C627-4A75-9E3D-DBABDFF8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6A2-CB9D-4F58-B5CD-E8A02D7F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E0D-D0E2-49D1-B10A-D1D370C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FCB-17CE-4B46-87EB-24699F9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023-96FF-48D0-8F97-49C5BB83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4E1-25BF-405F-9FB2-E59624B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A9F-447C-49F2-B866-40CD1814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6A6-0F04-428B-86A2-46E88FE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F3C9-E371-4FD0-BC8A-59DACD7077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979640" y="549360"/>
            <a:ext cx="223200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ardkal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rojektkal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619280" y="2852640"/>
            <a:ext cx="1942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s-kal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372360" y="2852640"/>
            <a:ext cx="2087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sourcen-kal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4088880" y="724680"/>
            <a:ext cx="2959560" cy="2444400"/>
            <a:chOff x="4088880" y="724680"/>
            <a:chExt cx="2959560" cy="2444400"/>
          </a:xfrm>
        </p:grpSpPr>
        <p:sp>
          <p:nvSpPr>
            <p:cNvPr id="45" name="AutoShape 9"/>
            <p:cNvSpPr/>
            <p:nvPr/>
          </p:nvSpPr>
          <p:spPr>
            <a:xfrm rot="2077200">
              <a:off x="4092120" y="1480680"/>
              <a:ext cx="2952720" cy="932040"/>
            </a:xfrm>
            <a:prstGeom prst="rightArrow">
              <a:avLst>
                <a:gd name="adj1" fmla="val 50000"/>
                <a:gd name="adj2" fmla="val 792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 rot="2107800">
              <a:off x="4210920" y="1555560"/>
              <a:ext cx="223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 (Änderungen wirken sich a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2"/>
          <p:cNvSpPr/>
          <p:nvPr/>
        </p:nvSpPr>
        <p:spPr>
          <a:xfrm>
            <a:off x="3851280" y="4508640"/>
            <a:ext cx="1800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timmen die Termine von Vorgä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7"/>
          <p:cNvGrpSpPr/>
          <p:nvPr/>
        </p:nvGrpSpPr>
        <p:grpSpPr>
          <a:xfrm>
            <a:off x="2411280" y="1413000"/>
            <a:ext cx="792360" cy="1368360"/>
            <a:chOff x="2411280" y="1413000"/>
            <a:chExt cx="792360" cy="1368360"/>
          </a:xfrm>
        </p:grpSpPr>
        <p:sp>
          <p:nvSpPr>
            <p:cNvPr id="49" name="AutoShape 15"/>
            <p:cNvSpPr/>
            <p:nvPr/>
          </p:nvSpPr>
          <p:spPr>
            <a:xfrm>
              <a:off x="2411280" y="1413000"/>
              <a:ext cx="792360" cy="1368360"/>
            </a:xfrm>
            <a:prstGeom prst="upArrow">
              <a:avLst>
                <a:gd name="adj1" fmla="val 50000"/>
                <a:gd name="adj2" fmla="val 4317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6"/>
            <p:cNvSpPr/>
            <p:nvPr/>
          </p:nvSpPr>
          <p:spPr>
            <a:xfrm rot="16200000">
              <a:off x="2275920" y="206604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rang v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20"/>
          <p:cNvSpPr/>
          <p:nvPr/>
        </p:nvSpPr>
        <p:spPr>
          <a:xfrm rot="10800000">
            <a:off x="5724000" y="3645000"/>
            <a:ext cx="1801800" cy="1512720"/>
          </a:xfrm>
          <a:custGeom>
            <a:avLst/>
            <a:gdLst>
              <a:gd name="textAreaLeft" fmla="*/ 1036800 w 1801800"/>
              <a:gd name="textAreaRight" fmla="*/ 1520640 w 1801800"/>
              <a:gd name="textAreaTop" fmla="*/ 203760 h 1512720"/>
              <a:gd name="textAreaBottom" fmla="*/ 647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 rot="5400000">
            <a:off x="2266560" y="3681360"/>
            <a:ext cx="1549440" cy="1476360"/>
          </a:xfrm>
          <a:custGeom>
            <a:avLst/>
            <a:gdLst>
              <a:gd name="textAreaLeft" fmla="*/ 0 w 1549440"/>
              <a:gd name="textAreaRight" fmla="*/ 1328040 w 1549440"/>
              <a:gd name="textAreaTop" fmla="*/ 984240 h 1476360"/>
              <a:gd name="textAreaBottom" fmla="*/ 1476720 h 1476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4:01:01Z</dcterms:created>
  <dc:creator>MS Press</dc:creator>
  <dc:description/>
  <dc:language>en-US</dc:language>
  <cp:lastModifiedBy>Steffen Reister</cp:lastModifiedBy>
  <dcterms:modified xsi:type="dcterms:W3CDTF">2013-04-14T10:24:46Z</dcterms:modified>
  <cp:revision>2</cp:revision>
  <dc:subject/>
  <dc:title>Folie 1</dc:title>
</cp:coreProperties>
</file>